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BEE1-4170-439A-9FE0-A0DD73650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765C-7BA8-4D1E-BEC4-173F3C840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B9C6-64C5-45B0-BC1A-8F8FF6697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E32B-A349-4E4F-8BEB-C03CEB564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D9FE2-0D5E-42FC-A1F4-9273CD17F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262B5-5E2D-4246-A539-635449371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B0B97-7039-4523-A0E5-BAA28104B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8CFC3-642A-46D8-A8C2-3CEA4FD3A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A2C6D-2BAB-4F65-BFB7-EFCDCBB32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55CB8-4C39-4C19-8BAC-B64A14561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77416-9373-4A68-94E4-832FA8F6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936D-2E06-4FE0-B416-00D3CEC14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A3DA5-81AD-41E8-90CB-17B5F40A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ED963-0874-4D41-BFA6-1987B3CE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5F8BE-2163-41CA-A23E-932098B02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8D259-C8AD-4812-BCE2-71322B8D0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0346D-57A7-442E-92C6-F253C633C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52B8-993D-4DCF-9AA4-59E7737D2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B2CF-666D-4F65-88E9-527AEDC70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7492-4E2D-4508-A0D2-EF9A42A8C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1492-4BC7-4B07-8FAF-9858A93C7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1F61-9AA4-465E-AD55-2D3B70D8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31E5-AF1E-4510-AF69-61405AEC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030E-EE66-4B14-B95B-0E0A8C98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DBA55-BD19-4908-BD41-DF45997A35DB}" type="slidenum">
              <a:rPr b="0" lang="ar-SA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F0DD-8F71-4BFC-A3F7-D79BC3F7DEAE}" type="slidenum">
              <a:rPr b="0" lang="ar-SA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ffff00"/>
                </a:solidFill>
                <a:latin typeface="Tahoma"/>
              </a:rPr>
              <a:t>الوقاية من العنف الأسري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د. فضيلة المحرو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لجنة حماية الطفل – وزارة الصحة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، </a:t>
            </a: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البحرين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المؤتمر العربي الاقليمي  لحماية الأسرة من العن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عمان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3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ديسمبر </a:t>
            </a: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200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أهم التحديات في مواجهة</a:t>
            </a:r>
            <a:r>
              <a:rPr b="1" lang="ar-BH" sz="3200" spc="-1" strike="noStrike">
                <a:solidFill>
                  <a:srgbClr val="eaeaea"/>
                </a:solidFill>
                <a:latin typeface="Tahoma"/>
              </a:rPr>
              <a:t> العنف الاسري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ل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حصانة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ل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جتماعية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و القانونية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لدى الرج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عدم امتلاك المرأة لقرار الطلاق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و حق الرجل المطل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عدم وجود البدائل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الأفض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عدم توفر الخدمات الحكومية او الدعم من مؤسسات المجتمع المدن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600" spc="-1" strike="noStrike">
                <a:solidFill>
                  <a:srgbClr val="eaeaea"/>
                </a:solidFill>
                <a:latin typeface="Tahoma"/>
              </a:rPr>
              <a:t>الوقاية من العنف </a:t>
            </a: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:</a:t>
            </a:r>
            <a:r>
              <a:rPr b="1" lang="ar-BH" sz="3600" spc="-1" strike="noStrike">
                <a:solidFill>
                  <a:srgbClr val="eaeaea"/>
                </a:solidFill>
                <a:latin typeface="Tahoma"/>
              </a:rPr>
              <a:t> انهاء الحصانة </a:t>
            </a: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القانونية</a:t>
            </a:r>
            <a:r>
              <a:rPr b="1" lang="ar-BH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حظر العنف و تجريمه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مؤامة قوانين الاسرة مع حقوق الانسان و الاتفاقيات الدولية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و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استناد الى سماحة الشريعة و ليس التفسير الضيق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لها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أصلاح القضاء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لعنف الأسري  في البرامج التعليمية و التدريبية للقضاة و الشرط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ورش عمل متعددة التخصصا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600" spc="-1" strike="noStrike">
                <a:solidFill>
                  <a:srgbClr val="eaeaea"/>
                </a:solidFill>
                <a:latin typeface="Tahoma"/>
              </a:rPr>
              <a:t>الوقاية من العنف </a:t>
            </a: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:</a:t>
            </a:r>
            <a:r>
              <a:rPr b="1" lang="ar-BH" sz="3600" spc="-1" strike="noStrike">
                <a:solidFill>
                  <a:srgbClr val="eaeaea"/>
                </a:solidFill>
                <a:latin typeface="Tahoma"/>
              </a:rPr>
              <a:t> انهاء الحصانة الاجتماعية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تغيير النفوس قبل النصوص \ تغيير القيم الاجتماع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نظر للعنف الاسري كقضية اجتماعية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وصحية و قانون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عنف الاسري هو ايذاء و سوء معاملة و انتهاك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ل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حقوق الانسان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و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ليس تأديب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للمرأة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مطلوب وضع حدا للعنف و ليس للحياة الزوج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000" spc="-1" strike="noStrike">
                <a:solidFill>
                  <a:srgbClr val="eaeaea"/>
                </a:solidFill>
                <a:latin typeface="Tahoma"/>
              </a:rPr>
              <a:t>الوقاية من العنف -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لتصدي للعوامل المسببة أو المترافقة مع العنف  مثل محاربة الأمية ، الجهل ، الفقر و البطالة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وضع حدا للزواج المبكر و التب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ين العمري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تنمية المهارات الوالد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تنشئة الاجتماعية و نبذ العنف كأسلوب لحل الخلافا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مكاتب للتوجيه و الارشاد الاسر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توعية المجتمع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حول الظاهر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جراء دراسات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 حول العن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  <a:cs typeface="Times New Roman"/>
              </a:rPr>
              <a:t>واقع سوء معاملة الأطفال في الوطن العربي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2130120"/>
            <a:ext cx="7543800" cy="35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ahoma"/>
              </a:rPr>
              <a:t>هناك العديد من الأطفال يعانون من سوء المعاملة و المجتمع عاجز عن حمايته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نادرا ما يتحمل المعتدين مسئولية خطأهم و يستمرون في سلوكه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ahoma"/>
              </a:rPr>
              <a:t>محدودية صلاحيات و امكانيات الجهات المعنية بالحماي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ahoma"/>
              </a:rPr>
              <a:t>التنسيق بين الجهات المعنية دون المستوى المطلوب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cc"/>
                </a:solidFill>
                <a:latin typeface="Tahoma"/>
              </a:rPr>
              <a:t>التحديات التي تعرقل جهود التدخل و الوقاية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الظروف الاقتصادية للعائل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القيم و المفاهيم والسلوكيات الاجتماعي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قصور التشريعات الوطنية و عدم موأمتها لاتفاقية حقوق الطفل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عدم كفاية الردعية في العقوبات المقررة بحق المعتدين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جهاز قضائي غير مهيأ لتلبية احتياجات الاطفال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eaeaea"/>
                </a:solidFill>
                <a:latin typeface="Times New Roman"/>
                <a:cs typeface="Times New Roman"/>
              </a:rPr>
              <a:t>الوقاية</a:t>
            </a:r>
            <a:r>
              <a:rPr b="1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الاولية:</a:t>
            </a:r>
            <a:r>
              <a:rPr b="1" lang="ar-SA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الاسرة</a:t>
            </a:r>
            <a:r>
              <a:rPr b="0" lang="ar-SA" sz="5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تدريس المهارات الاجتماعية و الحياتية  بالمدار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تدريس الصحة الانجابية بالمدار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الثقافة الأسرية و التدبير المنزلي لكل  المقبلين على الزواج ذكورا  و  إناثا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سن قانون الزامية التعليم و وضع آليات تنفيذه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قانون لل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ا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حوال الشخصية ( سن الزواج &lt; 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18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سنة 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تمكين الاسرة العربية 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74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ar-SA" sz="3200" spc="-1" strike="noStrike">
                <a:solidFill>
                  <a:srgbClr val="ffffcc"/>
                </a:solidFill>
                <a:latin typeface="Arial"/>
              </a:rPr>
              <a:t>تعليم + عمل + مسكن + ثقافة أسري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Times New Roman"/>
                <a:cs typeface="Times New Roman"/>
              </a:rPr>
              <a:t>التدخل و العلاج – الوقاية الثالثة</a:t>
            </a:r>
            <a:r>
              <a:rPr b="0" lang="en-US" sz="5400" spc="-1" strike="noStrike">
                <a:solidFill>
                  <a:srgbClr val="eaeaea"/>
                </a:solidFill>
                <a:latin typeface="Tahoma"/>
                <a:ea typeface="Andalus"/>
              </a:rPr>
              <a:t> 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ahoma"/>
              </a:rPr>
              <a:t>مراكز لتقديم الخدمة الصحية و النفسية و الاجتماعية  و القانونية لضحايا الاعتداء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ahoma"/>
              </a:rPr>
              <a:t>إعطاء صلاحيات و إمكانيات اكبر و تفرغ للهيئات المعنية بحماية الطفل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ahoma"/>
              </a:rPr>
              <a:t>آليات واضحة للتنسيق بين وزارات الصحة ، التعليم ، الشئون الاجتماعية ، العدل و الداخلية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ahoma"/>
              </a:rPr>
              <a:t>تأهيل المعتدين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ahoma"/>
              </a:rPr>
              <a:t> بحوث ميدانية بمنهجية علمية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تدريب المهنيين المستم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  <a:cs typeface="Times New Roman"/>
              </a:rPr>
              <a:t>الوقاية 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+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+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3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– القانون و تطبيق العدالة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مراجعة و تعديل القوانين المتعلقة بحماية الطفل و موأمتها مع الاتفاقية الدولية لحقوق الطفل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ايجاد جهاز قضائي متخصص و متحسس و متجاوب مع حاجات الطفل و تعقيدات الاعتداءات ضمن نفس العائل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تشديد العقوبات المقررة و تنفيذها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مراجعة و تعديل و تشديد القوانين المتعلقة بالعنف الاسري (ضد المرأة و الطفل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Tahoma"/>
                <a:cs typeface="Times New Roman"/>
              </a:rPr>
              <a:t>الوقاية</a:t>
            </a:r>
            <a:r>
              <a:rPr b="1" lang="ar-SA" sz="4800" spc="-1" strike="noStrike">
                <a:solidFill>
                  <a:srgbClr val="eaeaea"/>
                </a:solidFill>
                <a:latin typeface="Tahoma"/>
                <a:ea typeface="Times New Roman"/>
              </a:rPr>
              <a:t> :  الاعلام و الثقافة</a:t>
            </a:r>
            <a:r>
              <a:rPr b="1" lang="ar-SA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 algn="r" rtl="1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خطة إعلامية لمحاربة أفلام العنف و الاباحية الجنسي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وقاية الاطفال من الاستغلال الجنسي عبر الانترنت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الاستخدام الامثل لوسائط الاعلام للتوعية حول ظاهرة سوء المعاملة و عواقبها و الوقاية منها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محاربة الصورة النمطية للأسرة في الشاشة العربية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ar-SA" sz="3200" spc="-1" strike="noStrike">
                <a:solidFill>
                  <a:srgbClr val="ffffcc"/>
                </a:solidFill>
                <a:latin typeface="Arial"/>
              </a:rPr>
              <a:t>الأب المتسلط العنيف و الأم التي لا حول لها و لا قو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Arial"/>
              </a:rPr>
              <a:t>      و غياب التواصل و التعاطي السليم مع الخلافات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eaeaea"/>
                </a:solidFill>
                <a:latin typeface="Tahoma"/>
              </a:rPr>
              <a:t>المحاور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ما هي المسببات \ العوامل المرافقة للعنف الاسري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مظاهر قبول العنف الاسر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لماذا ترضخ النساء للعنف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تصدي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وقا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لوقاية من ايذاء الأطفا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ar-SA" sz="4000" spc="-1" strike="noStrike">
                <a:solidFill>
                  <a:srgbClr val="eaeaea"/>
                </a:solidFill>
                <a:latin typeface="Tahoma"/>
              </a:rPr>
              <a:t>الخلاصة التعاطي مع 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العنف الأسري</a:t>
            </a:r>
            <a:r>
              <a:rPr b="1" lang="ar-SA" sz="4000" spc="-1" strike="noStrike">
                <a:solidFill>
                  <a:srgbClr val="eaeaea"/>
                </a:solidFill>
                <a:latin typeface="Tahoma"/>
              </a:rPr>
              <a:t> يتطلب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</a:rPr>
              <a:t>فهم أعمق للمشكلة يستند على الحقائق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</a:rPr>
              <a:t>رؤية مستقبلية ذات اهداف واضحة و محددة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</a:rPr>
              <a:t>اقرار الترابط بين الوقاية و التدخل و تحميل الجاني المسئولية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الشراكة و 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</a:rPr>
              <a:t>العمل معا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كسر الحلقة المفرغة  من أين نبدأ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eaeaea"/>
                </a:solidFill>
                <a:latin typeface="Tahoma"/>
              </a:rPr>
              <a:t>حجم المشكلة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30%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 البحرين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34%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مص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52%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الضفة الغربية و قطاع غزة (السنة الماضية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066320" y="18284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في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مسيرة جماهيرية كبيرة تعتبر الأكبر من حيث العدد في تاريخ البحرين قدرت بحوالي مائة وعشرين ألف مشارك من الجنسين تقدمها علماء الدين عصر يوم اليوم الأربعاء</a:t>
            </a: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 نوفمبر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 في منطقة المنامة ط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لبت بضمانات شرعية وفقهية لإصدار قانون أحكام الأسرة الذي تنوي السلطة البحرينية إصداره.</a:t>
            </a:r>
            <a:br>
              <a:rPr sz="2400"/>
            </a:b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وكانت المسيرة قد بدأ من منحنى مجمع جيان في منطقة سنابس </a:t>
            </a: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بينما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وصل رأس المسيرة إلى بداية كوبري اللؤلؤة حيث قدر طولها بكيلومترين، وبعرض ثلاثين شخص في كل صف في المتوسط.</a:t>
            </a:r>
            <a:br>
              <a:rPr sz="2400"/>
            </a:b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0" y="838080"/>
            <a:ext cx="5867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0" y="5715000"/>
            <a:ext cx="5181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000" spc="-1" strike="noStrike">
                <a:solidFill>
                  <a:srgbClr val="eaeaea"/>
                </a:solidFill>
                <a:latin typeface="Tahoma"/>
              </a:rPr>
              <a:t>في مصر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80%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من النسا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65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% من المتعلما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69%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من العاملا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يوافقن على حق الرجل في ضرب المرأ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اسباب المبررة: رفض الجنس ، عدم طاعة الرجل ، إهمال الاطفال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600" spc="-1" strike="noStrike">
                <a:solidFill>
                  <a:srgbClr val="eaeaea"/>
                </a:solidFill>
                <a:latin typeface="Tahoma"/>
              </a:rPr>
              <a:t>ما هي المسببات \ العوامل المرافقة للعنف الاسري</a:t>
            </a:r>
            <a:r>
              <a:rPr b="1" lang="ar-BH" sz="4800" spc="-1" strike="noStrike">
                <a:solidFill>
                  <a:srgbClr val="eaeaea"/>
                </a:solidFill>
                <a:latin typeface="Tahoma"/>
              </a:rPr>
              <a:t>؟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تعرض للعنف كطفل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و حلقة العنف المفرغ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وضع الاقتصاد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تدني التحصيل العلمي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تدني المهارات الاجتماعية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تدني المهارات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لوالدية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و التواصل العائل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ضطراب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ت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الشخصية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و الأمراض النفسية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الادمان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قيم الاجتماعية و التقالي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قانو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600" spc="-1" strike="noStrike">
                <a:solidFill>
                  <a:srgbClr val="eaeaea"/>
                </a:solidFill>
                <a:latin typeface="Tahoma"/>
              </a:rPr>
              <a:t>القيم الاجتماعية و التقاليد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2819160"/>
            <a:ext cx="75438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800" spc="-1" strike="noStrike">
                <a:solidFill>
                  <a:srgbClr val="ffff00"/>
                </a:solidFill>
                <a:latin typeface="Tahoma"/>
              </a:rPr>
              <a:t>تجاهل العنف و تحمله بل و قبوله اجتماعيا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800" spc="-1" strike="noStrike">
                <a:solidFill>
                  <a:srgbClr val="ffff00"/>
                </a:solidFill>
                <a:latin typeface="Tahoma"/>
              </a:rPr>
              <a:t>رفض العنف الاسري = هدم القيم العائلية و التقاليد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!!!</a:t>
            </a:r>
            <a:r>
              <a:rPr b="1" lang="ar-BH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800" spc="-1" strike="noStrike">
                <a:solidFill>
                  <a:srgbClr val="ffff00"/>
                </a:solidFill>
                <a:latin typeface="Tahoma"/>
              </a:rPr>
              <a:t>بقاء الاسرة معا تعلو فوق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كل اعتبار!!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800" spc="-1" strike="noStrike">
                <a:solidFill>
                  <a:srgbClr val="ffff00"/>
                </a:solidFill>
                <a:latin typeface="Tahoma"/>
              </a:rPr>
              <a:t>العنف ال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أ</a:t>
            </a:r>
            <a:r>
              <a:rPr b="1" lang="ar-BH" sz="2800" spc="-1" strike="noStrike">
                <a:solidFill>
                  <a:srgbClr val="ffff00"/>
                </a:solidFill>
                <a:latin typeface="Tahoma"/>
              </a:rPr>
              <a:t>سري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شأن عائلي</a:t>
            </a:r>
            <a:r>
              <a:rPr b="1" lang="ar-BH" sz="2800" spc="-1" strike="noStrike">
                <a:solidFill>
                  <a:srgbClr val="ffff00"/>
                </a:solidFill>
                <a:latin typeface="Tahoma"/>
              </a:rPr>
              <a:t> خا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العنف هو حق للرجل و تنفيذا للارادة الالهي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eaeaea"/>
                </a:solidFill>
                <a:latin typeface="Tahoma"/>
              </a:rPr>
              <a:t>القانون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ar-BH" sz="4400" spc="-1" strike="noStrike">
                <a:solidFill>
                  <a:srgbClr val="eaeaea"/>
                </a:solidFill>
                <a:latin typeface="Tahoma"/>
              </a:rPr>
              <a:t>والعنف الاسري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قانون اذا لم يجيزه فهو لا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يمنعه او يجرم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فرض الزواج خصوصا المبكر و تزويج القاصر هو نوعا من العنف؟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ديان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تستند  على العدالة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و الحق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و المودة و الرحمة ولايمكن أن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تجيز العنف الاسر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تفسير الضيق للشريعة لتبرير التقاليد المجتمعية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و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عطاء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المعنف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الحصانة لممارسة العنف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eaeaea"/>
                </a:solidFill>
                <a:latin typeface="Tahoma"/>
              </a:rPr>
              <a:t>مظاهر قبول العنف الاسري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1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. غياب القانون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2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. تجاهل القضاة الشرعيي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3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. صعوبة اثبات الضر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4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. غض النظر من قبل الدولة و المجتم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5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. غياب خدمات الايواء و المساعدة القانونية و الاجتماع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6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.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القصور في خدمات الوقا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eaeaea"/>
                </a:solidFill>
                <a:latin typeface="Tahoma"/>
              </a:rPr>
              <a:t>عدم التبليغ عن حالات العنف الاسري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خوف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انكار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خشية من نبذ المجتم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قبول المجتمع للعن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ف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الاسر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تجاهل المؤسسة الرسم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eaeaea"/>
                </a:solidFill>
                <a:latin typeface="Tahoma"/>
              </a:rPr>
              <a:t>لماذا ترضخ النساء للعنف؟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قناعة غالبية النساء بأن هذا حقا للرجل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اعتماد الاقتصادي على الرج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عدم قدرة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مرأة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على الاستقلال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في منزل منفصل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ضغوط الاجتماعية للحفاظ على العائل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موقف المجتمعي من المطلق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عدم القدرة على الطلاق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و الخوف من فقدان الحضان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فقدان الامل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في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عدالة القضاء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وا</a:t>
            </a: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ذا المَسيرةُ سُئَلَتْ بأيّ عقلٍ خََرَجَتْ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وإذا الحماقة استُجوِبت بأي دافع كتب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وإذا الأسئِلةُ سُئِـلَت بأي ذَنبِ قُـمِعَتْ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2T16:06:42Z</dcterms:created>
  <dc:creator>user</dc:creator>
  <dc:description/>
  <dc:language>en-US</dc:language>
  <cp:lastModifiedBy>MOHAMMED</cp:lastModifiedBy>
  <dcterms:modified xsi:type="dcterms:W3CDTF">2008-11-07T17:57:36Z</dcterms:modified>
  <cp:revision>24</cp:revision>
  <dc:subject/>
  <dc:title>الوقاية من العنف الأسري</dc:title>
</cp:coreProperties>
</file>