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D8E-1F3C-4EED-B20F-36BE7B37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6A2-2219-4B15-8EFA-187B4476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465-36B7-4BC2-A4BB-E7959EC3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4971-1AF7-41D5-B23D-6BFE3FB2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36B8-A67B-439E-9123-610A7ED1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4DDC-0B17-4E27-B464-B2DBB617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C92C-2CFB-4899-B112-3782B2AA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4E44-F862-4143-9B96-05DF7E60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0F4D-8AA9-481D-8840-6AD7A483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CD42-5687-44DB-A6FC-9EED8BB1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765-5EBA-4130-86B1-D6AF6ED4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C7C5-E87A-4F1E-A2FC-C8A42A2A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4065-4E9F-4711-B3A5-E7A56E71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8824-3F93-408D-A17D-E1E3358D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74BD-AD9B-4127-9C4C-E4DAE03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3CA1-C13C-4251-B7B1-79F851E5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2F13-237B-42AB-BEAC-B6748865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D425-8F3E-431B-B868-5800BCAD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723-1390-400C-AF0A-61D34DB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C48-2BC9-4B15-A95C-2362A2F4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B3A2-608A-4648-827F-0E5092F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1E3-72E4-444B-B558-C901728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550B-24DE-444C-8F52-ABD2DE2D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5E06-DFE7-44CE-B978-61BA40C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3B8-1AB7-4435-826A-8B5414133F71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CE81-2FA5-4182-ACB8-07213CDAB642}" type="slidenum">
              <a:rPr b="0" lang="ar-SA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fff00"/>
                </a:solidFill>
                <a:latin typeface="Tahoma"/>
              </a:rPr>
              <a:t>الوقاية من العنف الأ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. فضيلة المحر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لجنة حماية الطفل – وزارة الصح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،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البح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لمؤتمر العربي الاقليمي  لحماية الأسرة من العن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عما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ديسمبر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أهم التحديات في مواجهة</a:t>
            </a:r>
            <a:r>
              <a:rPr b="1" lang="ar-BH" sz="3200" spc="-1" strike="noStrike">
                <a:solidFill>
                  <a:srgbClr val="eaeaea"/>
                </a:solidFill>
                <a:latin typeface="Tahoma"/>
              </a:rPr>
              <a:t> العنف الاسري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صان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قانون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د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متلاك المرأة لقرار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ق الرجل المطل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وجود البدائ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أفض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توفر الخدمات الحكومية او الدعم من مؤسسات المجتمع المدن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القانونية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ظر العنف و تجريمه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ؤامة قوانين الاسرة مع حقوق الانسان و الاتفاقيات الدول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تناد الى سماحة الشريعة و ليس التفسير الضي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أصلاح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عنف الأسري  في البرامج التعليمية و التدريبية للقضاة و الشرط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رش عمل متعددة التخصص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وقاية من العنف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:</a:t>
            </a: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 انهاء الحصانة الاجتماعية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غيير النفوس قبل النصوص \ تغيير القيم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نظر للعنف الاسري كقضية اجتماع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صحية و قانو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عنف الاسري هو ايذاء و سوء معاملة و انتهاك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حقوق الانسا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يس تأدي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لمرأ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طلوب وضع حدا للعنف و ليس للحياة الزو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الوقاية من العنف -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تصدي للعوامل المسببة أو المترافقة مع العنف  مثل محاربة الأمية ، الجهل ، الفقر و البطال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ضع حدا للزواج المبكر و التب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ين العمر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نمية المهارات الوالد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نشئة الاجتماعية و نبذ العنف كأسلوب لحل الخلا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كاتب للتوجيه و الارشاد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وعية المجتمع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حول الظاه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جراء دراسات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 حول العن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واقع سوء معاملة الأطفال في الوطن العربي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130120"/>
            <a:ext cx="7543800" cy="35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هناك العديد من الأطفال يعانون من سوء المعاملة و المجتمع عاجز عن حمايت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نادرا ما يتحمل المعتدين مسئولية خطأهم و يستمرون في سلوكه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محدودية صلاحيات و امكانيات الجهات المعنية بالحما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ahoma"/>
              </a:rPr>
              <a:t>التنسيق بين الجهات المعنية دون المستوى المطلو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cc"/>
                </a:solidFill>
                <a:latin typeface="Tahoma"/>
              </a:rPr>
              <a:t>التحديات التي تعرقل جهود التدخل و الوقاي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ظروف الاقتصادية ل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قيم و المفاهيم والسلوكيات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قصور التشريعات الوطنية و عدم موأمتها لاتفاقية 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عدم كفاية الردعية في العقوبات المقررة بحق المعتدي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جهاز قضائي غير مهيأ لتلبية احتياجات الاطفا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</a:t>
            </a:r>
            <a:r>
              <a:rPr b="1" lang="en-US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ولية:</a:t>
            </a:r>
            <a:r>
              <a:rPr b="1" lang="ar-SA" sz="5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الاسرة</a:t>
            </a:r>
            <a:r>
              <a:rPr b="0" lang="ar-SA" sz="5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مهارات الاجتماعية و الحياتية 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دريس الصحة الانجابية بالمدار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لثقافة الأسرية و التدبير المنزلي لكل  المقبلين على الزواج ذكورا  و  إناث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سن قانون الزامية التعليم و وضع آليات تنفيذ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قانون لل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ا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حوال الشخصية ( سن الزواج &lt;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سنة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تمكين الاسرة العربية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تعليم + عمل + مسكن + ثقافة أس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تدخل و العلاج – الوقاية الثالثة</a:t>
            </a:r>
            <a:r>
              <a:rPr b="0" lang="en-US" sz="5400" spc="-1" strike="noStrike">
                <a:solidFill>
                  <a:srgbClr val="eaeaea"/>
                </a:solidFill>
                <a:latin typeface="Tahoma"/>
                <a:ea typeface="Andalus"/>
              </a:rPr>
              <a:t>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مراكز لتقديم الخدمة الصحية و النفسية و الاجتماعية  و القانونية لضحايا الاعتداء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إعطاء صلاحيات و إمكانيات اكبر و تفرغ للهيئات المعنية بحماية الطف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آليات واضحة للتنسيق بين وزارات الصحة ، التعليم ، الشئون الاجتماعية ، العدل و الداخل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تأهيل المعتدين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 بحوث ميدانية بمنهجية علمي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r" rtl="1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تدريب المهنيين المستم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Times New Roman"/>
              </a:rPr>
              <a:t>الوقاية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2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– القانون و تطبيق العدالة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القوانين المتعلقة بحماية الطفل و موأمتها مع الاتفاقية الدولية لحقوق الطف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ايجاد جهاز قضائي متخصص و متحسس و متجاوب مع حاجات الطفل و تعقيدات الاعتداءات ضمن نفس العائل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تشديد العقوبات المقررة و تنفيذ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مراجعة و تعديل و تشديد القوانين المتعلقة بالعنف الاسري (ضد المرأة و الطفل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80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  <a:cs typeface="Times New Roman"/>
              </a:rPr>
              <a:t>الوقاية</a:t>
            </a:r>
            <a:r>
              <a:rPr b="1" lang="ar-SA" sz="4800" spc="-1" strike="noStrike">
                <a:solidFill>
                  <a:srgbClr val="eaeaea"/>
                </a:solidFill>
                <a:latin typeface="Tahoma"/>
                <a:ea typeface="Times New Roman"/>
              </a:rPr>
              <a:t> :  الاعلام و الثقافة</a:t>
            </a:r>
            <a:r>
              <a:rPr b="1" lang="ar-SA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خطة إعلامية لمحاربة أفلام العنف و الاباحية الجنس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وقاية الاطفال من الاستغلال الجنسي عبر الانترن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ستخدام الامثل لوسائط الاعلام للتوعية حول ظاهرة سوء المعاملة و عواقبها و الوقاية منها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-253800" algn="r" rtl="1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محاربة الصورة النمطية للأسرة في الشاشة العربية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الأب المتسلط العنيف و الأم التي لا حول لها و لا قو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ial"/>
              </a:rPr>
              <a:t>      و غياب التواصل و التعاطي السليم مع الخلافات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محاور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ا هي المسببات \ العوامل المرافقة للعنف الاسري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مظاهر قبول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لماذا ترضخ النساء للعنف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صدي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قاية من ايذاء الأطف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الخلاصة التعاطي مع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العنف الأسري</a:t>
            </a:r>
            <a:r>
              <a:rPr b="1" lang="ar-SA" sz="4000" spc="-1" strike="noStrike">
                <a:solidFill>
                  <a:srgbClr val="eaeaea"/>
                </a:solidFill>
                <a:latin typeface="Tahoma"/>
              </a:rPr>
              <a:t> يتطلب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فهم أعمق للمشكلة يستند على الحقائ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رؤية مستقبلية ذات اهداف واضحة و محدد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قرار الترابط بين الوقاية و التدخل و تحميل الجاني المسئولية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الشراكة و 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</a:rPr>
              <a:t>العمل معا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كسر الحلقة المفرغة  من أين نبدأ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حجم المشكلة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 البحري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4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ص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2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ضفة الغربية و قطاع غزة (السنة الماضية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ف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مسيرة جماهيرية كبيرة تعتبر الأكبر من حيث العدد في تاريخ البحرين قدرت بحوالي مائة وعشرين ألف مشارك من الجنسين تقدمها علماء الدين عصر يوم اليوم الأربعاء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 نوفمبر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في منطقة المنامة 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بت بضمانات شرعية وفقهية لإصدار قانون أحكام الأسرة الذي تنوي السلطة البحرينية إصداره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كانت المسيرة قد بدأ من منحنى مجمع جيان في منطقة سنابس </a:t>
            </a:r>
            <a:r>
              <a:rPr b="1" lang="ar-BH" sz="2400" spc="-1" strike="noStrike">
                <a:solidFill>
                  <a:srgbClr val="ffffff"/>
                </a:solidFill>
                <a:latin typeface="Tahoma"/>
              </a:rPr>
              <a:t>بينما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وصل رأس المسيرة إلى بداية كوبري اللؤلؤة حيث قدر طولها بكيلومترين، وبعرض ثلاثين شخص في كل صف في المتوسط.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838080"/>
            <a:ext cx="586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5715000"/>
            <a:ext cx="518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000" spc="-1" strike="noStrike">
                <a:solidFill>
                  <a:srgbClr val="eaeaea"/>
                </a:solidFill>
                <a:latin typeface="Tahoma"/>
              </a:rPr>
              <a:t>في مصر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نس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% من المتعلم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69%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من العامل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وافقن على حق الرجل في ضرب المرأ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سباب المبررة: رفض الجنس ، عدم طاعة الرجل ، إهمال الاطفال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ما هي المسببات \ العوامل المرافقة للعنف الاسري</a:t>
            </a:r>
            <a:r>
              <a:rPr b="1" lang="ar-BH" sz="4800" spc="-1" strike="noStrike">
                <a:solidFill>
                  <a:srgbClr val="eaeaea"/>
                </a:solidFill>
                <a:latin typeface="Tahoma"/>
              </a:rPr>
              <a:t>؟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عرض للعنف كطف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حلقة العنف المفرغ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وضع الاقتص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تحصيل العلم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الاجتماعي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دني المهارات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لوالدي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تواصل العائل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ضطراب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ت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شخصي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أمراض النفسية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دما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يم الاجتماعية و التقال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 algn="r" rtl="1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600" spc="-1" strike="noStrike">
                <a:solidFill>
                  <a:srgbClr val="eaeaea"/>
                </a:solidFill>
                <a:latin typeface="Tahoma"/>
              </a:rPr>
              <a:t>القيم الاجتماعية و التقاليد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28191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تجاهل العنف و تحمله بل و قبوله اجتماعيا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رفض العنف الاسري = هدم القيم العائلية و التقاليد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!!!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بقاء الاسرة معا تعلو فوق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كل اعتبار!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العنف ال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أ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سري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شأن عائلي</a:t>
            </a:r>
            <a:r>
              <a:rPr b="1" lang="ar-BH" sz="2800" spc="-1" strike="noStrike">
                <a:solidFill>
                  <a:srgbClr val="ffff00"/>
                </a:solidFill>
                <a:latin typeface="Tahoma"/>
              </a:rPr>
              <a:t> خا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العنف هو حق للرجل و تنفيذا للارادة الاله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القانون 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و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قانون اذا لم يجيزه فهو لا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يمنعه او يجرم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رض الزواج خصوصا المبكر و تزويج القاصر هو نوعا من العنف؟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اديان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تستند  على العدال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 الحق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المودة و الرحمة ولايمكن أن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يز العنف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تفسير الضيق للشريعة لتبرير التقاليد المجتمعية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و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عطاء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معن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حصانة لممارسة العن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مظاهر قبول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1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القانو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تجاهل القضاة الشرعي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صعوبة اثبات الضر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ض النظر من قبل الدولة و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5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 غياب خدمات الايواء و المساعدة القانونية و الاجتما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6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القصور في خدمات الوقا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عدم التبليغ عن حالات العنف الاسر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و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نكار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خشية من نبذ المجتم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بول المجتمع للعن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الاس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تجاهل المؤسسة الرس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eaeaea"/>
                </a:solidFill>
                <a:latin typeface="Tahoma"/>
              </a:rPr>
              <a:t>لماذا ترضخ النساء للعنف؟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قناعة غالبية النساء بأن هذا حقا للرج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اعتماد الاقتصادي على الرج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عدم قدرة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رأة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على الاستقلال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 في منزل منفص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ضغوط الاجتماعية للحفاظ على العائ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الموقف المجتمعي من المطلق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م القدرة على الطلاق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و الخوف من فقدان الحضا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فقدان الامل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في </a:t>
            </a: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عدالة القضاء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fff00"/>
                </a:solidFill>
                <a:latin typeface="Tahoma"/>
              </a:rPr>
              <a:t>وا</a:t>
            </a: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ذا المَسيرةُ سُئَلَتْ بأيّ عقلٍ خََرَج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حماقة استُجوِبت بأي دافع كتب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ahoma"/>
              </a:rPr>
              <a:t>وإذا الأسئِلةُ سُئِـلَت بأي ذَنبِ قُـمِعَتْ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16:06:42Z</dcterms:created>
  <dc:creator>user</dc:creator>
  <dc:description/>
  <dc:language>en-US</dc:language>
  <cp:lastModifiedBy>MOHAMMED</cp:lastModifiedBy>
  <dcterms:modified xsi:type="dcterms:W3CDTF">2008-11-07T17:57:36Z</dcterms:modified>
  <cp:revision>24</cp:revision>
  <dc:subject/>
  <dc:title>الوقاية من العنف الأسري</dc:title>
</cp:coreProperties>
</file>