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128-EB02-460B-ABB0-A3DD80B3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EAF-317C-41E1-AAAC-AF63944A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AD6-FB0D-4B31-B77D-FE9B4E02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611-4C98-4FDB-A6C8-F90D607E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75A-181B-4ACF-A5EB-53616922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7AC4-4250-498E-A9EF-950F3D0C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F3CF-9422-40A6-AC19-6EC64C3B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7890-8198-44B3-86F2-1CA10AF5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1140-441C-4FA7-9361-8826B2F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5AE1-465F-4404-8701-9E19436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D149-BC94-4B7B-9FEB-C9AD010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030-13AE-4B64-8CEA-E29EADF9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389A-2F32-4130-98DE-EE7F901D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B4A-C01D-43DA-B55B-3928988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D05B-401D-406B-A3F3-6188C64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A184-C976-4400-B1D4-63A08DD0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A07-64BA-4267-8404-F42C14ED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D72-C221-4CB5-863A-820182EB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F75-F7DF-4D73-8FE4-BED298D1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E1A-23AD-4870-B8E4-1E081A3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9C8-7F95-4035-A9C3-07B3A1AB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1E3-BB00-40D6-8BC2-8C505DF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117-E7E2-4BE7-80CD-61FE526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495-D0BA-4A74-BC90-C3F1B23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09B-3840-4B74-B368-7F7C47E71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1A9-C41F-47E8-9610-5DA19D67D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62160" y="3048120"/>
            <a:ext cx="31100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e_Granada"/>
              </a:rPr>
              <a:t>القص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e_Granada"/>
              <a:ea typeface="ae_Granada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1428840" y="3819600"/>
            <a:ext cx="4305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الصف الثالث الإعداد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6215040" y="3810240"/>
            <a:ext cx="430056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</p:spTree>
  </p:cSld>
  <p:transition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495440"/>
            <a:ext cx="8076960" cy="1171440"/>
          </a:xfrm>
          <a:prstGeom prst="flowChartAlternateProcess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1080" y="414360"/>
            <a:ext cx="876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 Esfehan"/>
              </a:rPr>
              <a:t>قصــــــــ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 Esfehan"/>
              <a:ea typeface="B Esfeh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1528920"/>
            <a:ext cx="7772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Jerk"/>
              </a:rPr>
              <a:t>Journey To The Centre Of The Eart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Jerk"/>
              <a:ea typeface="Jer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2776680"/>
            <a:ext cx="3581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racter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520" y="3624120"/>
            <a:ext cx="852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xel: A young boy who lives with his uncle Professor Lidenbroc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43440" y="2762280"/>
            <a:ext cx="3200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شخصيات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09840" y="4033800"/>
            <a:ext cx="6529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كسل: شاب يعيش مع عمه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47760" y="490680"/>
            <a:ext cx="4829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2090880"/>
            <a:ext cx="67057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acstArt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acstArt"/>
              <a:ea typeface="KacstA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40" y="4629240"/>
            <a:ext cx="860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ofessor Lidenbrock: A famous scientist and geologist . Axel’ s uncl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100480"/>
            <a:ext cx="74106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بروفيسير ليدنبروك: عالم مشهور وجيولوجى ، عم أكسل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" y="5681520"/>
            <a:ext cx="62056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tha: Professor Lidenbrock’ s c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6062760"/>
            <a:ext cx="542916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ثا: طباخة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5120" y="547560"/>
            <a:ext cx="468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ns: A guide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7800" y="914400"/>
            <a:ext cx="367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نز: مرشد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0160" y="1442880"/>
            <a:ext cx="60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r Fridrikson: A scientist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0160" y="2308320"/>
            <a:ext cx="52099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les Verne: A writer of the stor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0160" y="3195720"/>
            <a:ext cx="6962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orri Sturlasson: A writer of the old b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5120" y="4052880"/>
            <a:ext cx="765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rne Saknussemm: A writer of the parchment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1857240"/>
            <a:ext cx="565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دكتور فريدريكسون: عالم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824200"/>
            <a:ext cx="39816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جول فيرن: كاتب القصه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7600" y="3648240"/>
            <a:ext cx="5276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ورى سترلاسون: كاتب الكتاب القديم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48160" y="4557600"/>
            <a:ext cx="4495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آرن ساكنوسم: كاتب البرشمان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423720"/>
            <a:ext cx="3429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ce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0160" y="116208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mburg: A city in German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29040" y="380880"/>
            <a:ext cx="31244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أماكن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62720" y="1533600"/>
            <a:ext cx="33717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مبورج: مدينه فى ألمان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5120" y="2023920"/>
            <a:ext cx="71200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celand: An island in the North Sea above Europe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24080" y="248616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يسلندا: جزيره فى بحر الشمال فوق أوروبا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0160" y="3024360"/>
            <a:ext cx="66625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eykjavik: The capital city of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443400"/>
            <a:ext cx="38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ريكجافيك: عاصمة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5120" y="3913200"/>
            <a:ext cx="62056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effels: An axticit volcano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4352760"/>
            <a:ext cx="466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يفلز: بركان خامد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5120" y="485316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cartaris: A high mountain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33920" y="5229360"/>
            <a:ext cx="520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كارتاريس: جبل عالى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5120" y="571824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penhagen: The capital city of Denmar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05520" y="6138720"/>
            <a:ext cx="382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كوبنهاجن: عاصمة الدنمار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5120" y="442800"/>
            <a:ext cx="826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romboli: A small island off the coast of southern Italy 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38280" y="890640"/>
            <a:ext cx="6496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ترومبولى: جزيره صغيره بعيده عن الساحل الجنوبى لإيطاليا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5120" y="1400040"/>
            <a:ext cx="65106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an Vicenzo: The largest town on Stromboli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179532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ان فتشنزو: أوسع بلده فى سترومبولى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5120" y="2347920"/>
            <a:ext cx="742500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essina: A port on the island of Sicily, Ital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43200" y="2771640"/>
            <a:ext cx="619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يسينا: ميناء على جزيرة صقليه فى إيطال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5120" y="3233880"/>
            <a:ext cx="795816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seilles: A port on the southern coast of Franc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3672000"/>
            <a:ext cx="619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سيليا: ميناء على الساحل الجنوبى لفرنس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71600" y="5715000"/>
            <a:ext cx="61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Kufi14 Normal"/>
              </a:rPr>
              <a:t>إلى اللقاء مع الفصل الأو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Kufi14 Normal"/>
              <a:ea typeface="Kufi14 Normal"/>
            </a:endParaRPr>
          </a:p>
        </p:txBody>
      </p:sp>
    </p:spTree>
  </p:cSld>
  <p:transition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57:59Z</dcterms:created>
  <dc:creator>A1-AL-FARIS</dc:creator>
  <dc:description/>
  <dc:language>en-US</dc:language>
  <cp:lastModifiedBy>Arwa</cp:lastModifiedBy>
  <dcterms:modified xsi:type="dcterms:W3CDTF">2009-09-28T19:39:53Z</dcterms:modified>
  <cp:revision>14</cp:revision>
  <dc:subject/>
  <dc:title>الشريحة 1</dc:title>
</cp:coreProperties>
</file>