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8AA4B-6E45-41E0-8EBB-2E3AEA4CD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1795A-2CDD-4D13-97DE-62565D0D3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31CDB-F48E-45A9-BA51-4F0E95FFE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C8EF9-CD6E-46BD-80C5-11D56218D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522C1-2D7F-4E42-B1F8-FB446C810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B2274-47A0-4B26-9249-387549018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55F46-C3E2-4877-B54E-91F67FFA5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98EAC-3A59-41A1-AEC0-AE0CA2804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33DA4-4369-42CD-8842-ACA1A8566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840C1-C856-498F-A58D-679BEAB66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2F42F-7516-4AB3-AB56-FE9489550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FA3CF-327E-4CB0-9815-B9D5B51E6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63E0-BAA9-4E0D-BEBB-7F2DD06A2A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ساد العمل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 ن عمل بغير علم كان ما يفسد أكثر مما يصلح ).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عمر بن عبد العزيز)</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ين الرضا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ست براد عيب ذي الود كل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ا بعض ما فيه إذا كنت راضيا</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عين الرضا عن كل عيب كليل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لكن عين السخط تبدي المساوي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ها يزداد العاملون</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زداد عدد العاملين بتشغيل المساعدين ، أما التدخل في دقائق عملهم دون مبرر فإنه يزعجهم ويفقدهم السلطة والثقة بالنف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داوة والجفاء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ظروا بعين عداوة لو أن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عين الرضا لا تستحسنوا ما استقبحو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لك في النمل عظة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نمل تبني قراها في تماسك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النحل يجني رحيق الشهد أعوان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عض لبعض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ناس للناس من بدو و حاض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بعض لبعض و إن لم يشعروا خدم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فاعة الحسنات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إذا الحبيب أتى بذنب واحد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جاءت محاسنه بألف شفيع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قول الكبيرة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عقول الصغيرة تناقش الأشخاص،و العقول المتوسطة تناقش الأشياء،و العقول الكبيرة تناقش المبادئ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كيم صيني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اتكن كهذا الرئيس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رئيس الذي لا يتنبأ بالمتاعب ولا يتوقع الحلول للمشكلات ولا يلقي بأفكاره إلى المستقبل المجهول ليعلم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طريقه ما هو إلى مسير أعمال بسيط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قائد وصفاء الذهن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الرئيس أن يحافظ على صفاء ذهنه ليستطيع السيطر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الحوادث بأفكاره وقراراته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فعال بأفعال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يحق لمن لايجرؤ على الإبداع ولا يرهق نفسه بالاختراع</a:t>
            </a:r>
            <a:endParaRPr b="0" lang="en-US" sz="3200" spc="-1" strike="noStrike">
              <a:solidFill>
                <a:srgbClr val="000000"/>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ن ينفد أخطاء زملائه الذين حاولوا ففشلوا وجربوا فأخطأوا </a:t>
            </a:r>
            <a:endParaRPr b="0" lang="en-US" sz="3200" spc="-1" strike="noStrike">
              <a:solidFill>
                <a:srgbClr val="000000"/>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يعلم هؤلاء النقاد بأن من لا يعمل لا يخطىء ونقد الأفعال </a:t>
            </a:r>
            <a:endParaRPr b="0" lang="en-US" sz="3200" spc="-1" strike="noStrike">
              <a:solidFill>
                <a:srgbClr val="000000"/>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أفعال أفضل منها خير من نقد الأفعال بالأقوال فقط)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مام الدماغ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شعر الرؤساء الناجحون بضرورة الانعزال بين آونة وأخرى للتأمل بهدوء ودراسة تصرفاتهم القريبة والبعيد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تأمين استرخاء أعصابهم وأذهانهم وهذا ما أسماه غالييني</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مام الدماغ)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نحراف القادة و القدوات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الملح يدرك ما يخشى تغير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كيف بالملح إن حلت به الغ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ل إناء بما فيه ينضح</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الرئيس أن يغذي نفسه ثقافيا وروحيا ، مكرسا كل يوم وقتا للقراءة والتفكير، ومختلطا باستمرار مع أصدقائه               لا للسرور والراحة فحسب بل للمناقشة في أمور اجتماعية وعلمي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كان الرفق في شىء إلا زانه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قول الله تعالى :(فبما رحمة من الله لنت لهم ولو كنت فظ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غليظ القلب لانفضوا من حولك فاعف عنهم واستغفر لهم</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شاورهم في الأمر فإذا عزمت فتوكل على الله إن الله يحب</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توكلين)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نفسك أكرمها </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نفسك أكرمها وإن ضاق مسكن</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عليك لها فاجعل لنفسك مسكن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إياك والسكنى بمنزل ذلـــــــ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يعد مسيئا فيها من كان مسكن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يدس السم في العسل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احذر عدوك إذ تراه باســم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الليث يبدو نابه إذ يغضب</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خير في ود امرىء متملق</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لو اللسان وقلبه يتله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وكنت أضنها لاتفرج </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ضاقت فلما استحكمت حلقاتها فرجت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كنت أضنها لاتفرج</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رب ضائقة يضيق بها الفتــــــــــ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ذرعا وعند الله منها المخرج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إن الحوادث قد يطرقن أسحارا </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ا راقد الليل مسرورا بأول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إن الحوادث قد يطرقن أسحار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 تفرحن بليل طاب أولــ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رب آخــر ليـل أجــج النـــارا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جاعة العقل </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شجاعة في القلوب كثي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رأيت شجعان العقول قليل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حسن الحلى </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عقل المرء أحسن حليتيـــه</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زين المرء في الدنيا الحياء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زكوم </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ما ضر الورود وما عليــ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إذا المزكوم لم يطعم شذاه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زلـل</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قد يدرك المتأني بعض حاجت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قد يكون مع المستحيل الزل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قطام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زية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علم ما الرزية فقد ما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ا شاة تموت و لا بعير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كن الرزية فقد حر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يموت بموته بشر كث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نعم أو لا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قلت في شئ نعم فأتمـــــــ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فإن نعم دين على الحر واجــ</a:t>
            </a:r>
            <a:r>
              <a:rPr b="0" lang="ar-SA" sz="3200" spc="-1" strike="noStrike">
                <a:solidFill>
                  <a:srgbClr val="000000"/>
                </a:solidFill>
                <a:latin typeface="Times New Roman"/>
              </a:rPr>
              <a:t>	</a:t>
            </a:r>
            <a:r>
              <a:rPr b="0" lang="ar-SA" sz="3200" spc="-1" strike="noStrike">
                <a:solidFill>
                  <a:srgbClr val="000000"/>
                </a:solidFill>
                <a:latin typeface="Times New Roman"/>
              </a:rPr>
              <a:t>ـب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إلا فقل لا تسترح و ترح ب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لئلا يقول النـــــاس إنك كـــــاذ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غنائم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خاطر بنفسك كي تصيب غنيم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الجلوس مع العيال قبيح</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ــــال فيه مهابـــة وتجلــــــ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والفقر فيه مذلة وفضـوح</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بيد</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قد يخيف القلب القاسي الجنود ويجعل منهم عبيدا ولكننا لا نقبل العمل مع العبيد في خدمة هدف مقد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كافأة</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يست مكافأة الرئيس في ثناء رؤسائه، بل في تعلق مرؤوسه الصامت به لطيبة قلبه وشدة إحساس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افتخار بالحماقة</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أنا لا أفتخر بأني لم أبدل رأيي أبدا حول الأشياء أو حول الأشخاص ،لأن عدم تبديل الرأي أبدا هو حماقة تماثل رفض الإنسان لأن يتعل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م تقولون مالا تفعلون</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كم رئيس نادى بمبادىء ومثل عليا فأعجب به الناس وساروا خلفه فما أن رأوا أعماله المنافية لأقواله حتى ثاروا عليه وأطاحوا به وبحكم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سوة المحبين</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نبوا ولكن دون قسوة ، فقد تجرح الملاحظة القاسية كرامة المرؤوس وتدفعه إلى التقاعس أو التمر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زنزانة الجروح</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مثل من ينكأ الجروح القديمة لأجل خطا بسيط كمثل من يسجن الرجل بأخطائه القديمة في سجن لا يستطيع منه فكاك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دوهام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تبينوا </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ا تتسرعوا في فرض العقوبة بمجرد سماع أقوال أحد الطرفين المتنازعين حتى لو كان من مساعديكم ، فكم من عقوبة مجحفة فرضت من قبل رؤساء يجهلون شكل المذنب واسمه وأسباب حادثت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دماغ الكسلان</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دماغ الكسلان معمل الشيطان)</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مثل انجليز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راع الظأن تتبعه السوام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7000"/>
          </a:bodyPr>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رأيت العلم صاحبه كريم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لو ولدته آباء لئام</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يس يزال يرفعه إلى أن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يعظم أمره القوم الكرام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يتبعونه في كل أمر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كراع الظأن تتبعه السوام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ولا العلم ما عرفت رجا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لا عرف الحلال و لا الحر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 الإمام الشافعي )   </a:t>
            </a:r>
            <a:endParaRPr b="0" lang="en-US" sz="3200" spc="-1" strike="noStrike">
              <a:solidFill>
                <a:srgbClr val="000000"/>
              </a:solidFill>
              <a:latin typeface="Times New Roman"/>
            </a:endParaRPr>
          </a:p>
          <a:p>
            <a:pPr marL="2638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638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879840" indent="0" algn="just"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ثل إيرلندي</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رؤوس كثيرة خير من رأس واح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هذا تقضي على القلق</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شيء يولد السعادة كالاستعاضة عن القلق بالعمل)</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موريس ميترلن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وح الفتية</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كما يروقني الشاب الذي فيه نكهة من الشيوخ فإنه يروقني الشيخ الذي فيه نكهة من الشباب ، والذي يجهد للجمع بين الشباب والشيب في نفسه تبقى روحه فتية مهما تقدم به السن)</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شيشترو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قائد الفاشل </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قائد الفاشل يفتقر إلى المهارة في العلاقات الإنسانية أو أنه يرفض مواجهة قرار صعب بكل حزم أو أنه ليس لديه الموهبة لبيع برامجه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وت من الجوع </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من يتقن حرفة لا يمكن أن يموت من الجوع أبدا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ما يتجول الجوع </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طوف الجوع دائما حول بيت الرجل العامل ولكنه لا يجرؤ أبدا أن يطرق باب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كمة صيني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لقاب</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ستطيع المؤسسة أن تمنح لقب مدير لأي رجل ولكن الرجل</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حده هو الذي يستطيع أن يجعل من نفسه مدير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جوزيف عيس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إدارة الذات </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 يمكن لمدير أن يدير أي عمل حتى لو تيسر له قدر كاف</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العلم والمعرفة والخبرة والمقدرة إذا كان لا يستطيع أن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دير نفسه بجدا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بيتر دراك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سكرتير يساوي مدير</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تصورت أنك تستطيع أن تعيش حياة خالية من المتاعب فـــاعلم إذن أن في مقدور سكرتيرك أن يجلس على كرسيك ويؤدي نفس العمل الذي تؤديه</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ليام ب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جـــــندي لا خير فيه </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الجندي البـسـيط الـذي لا يطمع إلى أن يصبح جـنرالا في يوم ما هو جــــندي لا خير في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نابليون)</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 على الأكابر يحكم العلماء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أكابر يحكمون على الور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على الأكابر يحكم العلماء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جــدير بالمجــد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م أجد الإنسان إلا ابن سعيه</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من كان أسعى كان بالمجد أجدر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صفي الحلـــي)</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ـيب عجــيب </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م أر في عيوب الناس عيب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كنقص القادرين على التمـــــ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سود مسخت فرودا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ما الجهل خيم في بلاد</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رأيت أسودها مسخت قرود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لى قدر أهل العزم </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قدر أهل العزم تأتي العزائ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تأتي على قدر الكرام المكارم</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تعظم في عين الصغير صغاره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تصغرفي عين العظيم العظائ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نب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نفسك فاذممها </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عيب زماننا والعيب فيـــــن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ما لزماننا عيــــب سوانا</a:t>
            </a:r>
            <a:endParaRPr b="0" lang="en-US" sz="3200" spc="-1" strike="noStrike">
              <a:solidFill>
                <a:srgbClr val="000000"/>
              </a:solidFill>
              <a:latin typeface="Times New Roman"/>
            </a:endParaRPr>
          </a:p>
          <a:p>
            <a:pPr marL="335880" indent="-3358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نهجو ذا الزمان بغير ذن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لو نطق الزمان لنا هجانا </a:t>
            </a:r>
            <a:endParaRPr b="0" lang="en-US" sz="3200" spc="-1" strike="noStrike">
              <a:solidFill>
                <a:srgbClr val="000000"/>
              </a:solidFill>
              <a:latin typeface="Times New Roman"/>
            </a:endParaRPr>
          </a:p>
          <a:p>
            <a:pPr marL="335880" indent="-3358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يس الذئب يأكل لحم ذئ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يأكل بعضنا بعضا عيان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إمام الشافعي)</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قارب البشرية  </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دع الكذوب فلا يكن لك صاحبا</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الكذوب يسير حرا يصحب</a:t>
            </a:r>
            <a:endParaRPr b="0" lang="en-US" sz="3200" spc="-1" strike="noStrike">
              <a:solidFill>
                <a:srgbClr val="000000"/>
              </a:solidFill>
              <a:latin typeface="Times New Roman"/>
            </a:endParaRPr>
          </a:p>
          <a:p>
            <a:pPr marL="298440" indent="-2984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لقاك يقســم إنــه بك واثـــــــق </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و إذا توارى عنك فهو العقرب </a:t>
            </a:r>
            <a:endParaRPr b="0" lang="en-US" sz="3200" spc="-1" strike="noStrike">
              <a:solidFill>
                <a:srgbClr val="000000"/>
              </a:solidFill>
              <a:latin typeface="Times New Roman"/>
            </a:endParaRPr>
          </a:p>
          <a:p>
            <a:pPr marL="298440" indent="-2984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عطيك من طرف اللسان حلاو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يروغ منك كما يروغ الثعل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علي بن أبي طالب )</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نز لا يكلف درهما </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الذي لا يحسن الابتسامة لا ينبغي له أن يفتح متجر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ثل صين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صية كونفوشيوس </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قل و سوف أنسى ،أرني و لعلي أتذكر ، شاركني و سوف أتذكر ) </a:t>
            </a:r>
            <a:r>
              <a:rPr b="0" lang="ar-SA" sz="3200" spc="-1" strike="noStrike">
                <a:solidFill>
                  <a:srgbClr val="000000"/>
                </a:solidFill>
                <a:latin typeface="Times New Roman"/>
              </a:rPr>
              <a:t>	</a:t>
            </a:r>
            <a:r>
              <a:rPr b="0" lang="ar-SA" sz="3200" spc="-1" strike="noStrike">
                <a:solidFill>
                  <a:srgbClr val="000000"/>
                </a:solidFill>
                <a:latin typeface="Times New Roman"/>
              </a:rPr>
              <a:t>     (  الحكيم الصيني كونفوشيوس)</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كثر الناس لطفا </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الغريب أن يكون أكثر الناس لطفا في الشركات الكبيرة أعلاهم مركزا ،و كثيرا ما راودني هذا السؤال: أتراهم حصلوا على المركز بسبب لطفهم أم أن المركز نفسه هو الذي جعلهم لطفاء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مالكوم فورب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هذا توجب المحبة </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لانت كلمته وجبت محبته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بير و إن صغر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علم فليس المرء يولد عالم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يس أخو علم كمن هو جاهل          </a:t>
            </a:r>
            <a:endParaRPr b="0" lang="en-US" sz="3200" spc="-1" strike="noStrike">
              <a:solidFill>
                <a:srgbClr val="000000"/>
              </a:solidFill>
              <a:latin typeface="Times New Roman"/>
            </a:endParaRPr>
          </a:p>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إن كبير القوم لا علم عند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صغير إذا التفت عليه الجحافل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إن صغير القوم إن كان عالم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كبير إذا ردت إليه المحاف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لؤم </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المرء لم يدنس اللؤم عرض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فكــــل رداء يرتديـــه جميـــــــ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صفي الدين حل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خلاق الرجال </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عمرك ما ضاقت بلاد بأهل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كـن أخـلاق الرجـال تضيـق</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عمرو بن معد يكرب)</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ساد الرأي </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كنت ذا رأي فكن ذا عزيم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إن فسـاد الـرأي أن تتــــردد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المتنبي)</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ذم بعد مدح </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مدحك امرؤ بما ليس فيك ، فلا تأمن أن يذمك بما ليس فيك)</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أبو زيد البلخي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ر الناس </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قول الرسول صلى الله عليه و سلم :(إن شر الناس عند الله منزلة يوم القيامة من تركه الناس اتقاء شر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رواه البخاري و مسلم عن عائش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ا تكن زبداً</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قول الله تعالى { فأما الزبدُ فيذهبُ جُفاءً و أما ما ينفعُ الناس فيمكثُ في الأرض كذلك يضرب الله الأمثال }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الرعد /</a:t>
            </a:r>
            <a:r>
              <a:rPr b="0" lang="ar-SA" sz="3200" spc="-1" strike="noStrike">
                <a:solidFill>
                  <a:srgbClr val="000000"/>
                </a:solidFill>
                <a:latin typeface="Times New Roman"/>
              </a:rPr>
              <a:t>17</a:t>
            </a:r>
            <a:r>
              <a:rPr b="0" lang="ar-SA"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ناعة الذات </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كل إنسان صانع ذاته و لكن لا يعترف بهذه الحقيقة سوى الناجحو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وطن المستحيل </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أل الممكن المستحيل أين تقيم فقال في أحلام العاجز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طاغو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صحة و الثروة </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م مبكرا و انهض مبكرا تكسب صحة و ثروة و عقل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 مثل انجليزي )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يل للمطففين *</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قليلاً ما تجد من يزن أخطاء الآخرين دون أن يضع إبهامه على كفة الميزا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إن البعوضة تدمي مقلة الأسد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 تحقرن صغيرا في مخاصم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إن البعوضة تدمي مقلة الأسد</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فر على اليسار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تواجد بعض الناس في الحياة لمجرد أنهم ولدوا فيه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نصف الفارغ </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ا تكونوا من أولئك الذين إذا رأو  نصف القارورة مملؤ اشتكوا من أ، نصفها فارغ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ؤساء الخالدون </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كفي حضور الرئيس المحبوب لإثارة الإندفاع و العمل في سبيل الهدف المشترك ، أما الرؤساء الخالدون فيكفي ذكراهم لإثارة مثل هذا الإندفاع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ضريبة التفوق </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يس النجاح غاية يقف بعدها كل عمل ، بل يجب أن يزداد الجهد بازدياد التقدم ، و للتفوق ضريبة يدفعها المتفوق من وقته و راحته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مكن و غير الممكن </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هنالك أفكار حسنة و أنظمة جيدة و لكنها غير صالحة للتطبيق في زمان معين أو بيئة معينة ، و الرئيس الصالح هو من استطاع التمييز بين الممكن و غير الممك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تغــــيير </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قول الله تعالى :ان الله لا يغير ما بقوم حتى يغيروا ما بأنفسهم و إذا أراد اللهُ بقوم سوءاً فلا مردّ له و ماله من دونه من وال }.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الرعد /</a:t>
            </a:r>
            <a:r>
              <a:rPr b="0" lang="ar-SA" sz="3200" spc="-1" strike="noStrike">
                <a:solidFill>
                  <a:srgbClr val="000000"/>
                </a:solidFill>
                <a:latin typeface="Times New Roman"/>
              </a:rPr>
              <a:t>11</a:t>
            </a:r>
            <a:r>
              <a:rPr b="0" lang="ar-SA" sz="3200" spc="-1" strike="noStrike">
                <a:solidFill>
                  <a:srgbClr val="000000"/>
                </a:solidFill>
                <a:latin typeface="Times New Roman"/>
              </a:rPr>
              <a:t>)</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آفة الرأي </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آفة الرأي الهو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أكثم بن صيفي)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ناعة الحياة </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الرجال الكبار و الأفكار الكبيرة هي التي تصنع البلاد الكبي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 مصطفى أمين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تى يطيب العيش ؟ </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طيب العيش أن تلقى أديبـــ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غذاه العـلم و الرأي المصيــب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يكشف عنك حيرة كل جه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فضـل العلم يعرفه الأديـــ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مال العقل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لم تر أن العقل زين لأهلـــه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أن كمال العقل طول التجارب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جاع ورب الكعبة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ما في الأرض أشجع من برئ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ا في الأرض أخوف من مري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سان العاقــــل </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سان العاقل من وراء قلبه ،فإذا أراد الكلام تفكر ،فإن كان له قال وإن كان عليه سكت ،وقلب الأحمق من وراء لسانه،فإذا أراد أن يقول قال ،فإن كان له سكت وإن كان عليه قا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حسن البصري)</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د ضل من كانت العمياء تهديه  </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عمى يقود بصيرا لا أبا لكم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قد ضل من كانت العميان تهديه</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داء لا دواء له </a:t>
            </a: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كل داء دواء يستطب ب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إلا الحماقة أعيت من يداويها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حل الأول </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رأي قبل شجاعة الشجعان</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هو أول وهي المحل الثاني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بل أن تندم </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أن تكون واثقا خير من أن تصبح نادم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ؤوس المستديرة إلى الوراء </a:t>
            </a: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ذين يديرون رؤوسهم إلى الخلف لا يرون الغد أبد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صطفى أ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سبــب التدمير    </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وء التدبير سبب التدم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يمة العمل </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أهداف هي التي تحدد قيمة أعمالنا،والمهم هو العمل الذي يكون هدفه مهم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ربة الفارغة </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عربة الفارغة أكثر جلبة من العربة الممتلئة وهكذا رؤوس الناس}</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برنارد شو)</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جوهرة الإدارة </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جوهرة الإدارة هو قـوة التنبؤ قبل حدوث الأشياء}</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هنري فايو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 سطرت يداك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ما من كاتب إلى سيبل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يبقى الدهر ما كتبت يداه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لا تكتب بكفك غير شئ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يسرك في القيامة أن تراه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ما تتعب الأجسام </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إذا كانت النفوس كبار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تعبت في مرادها الأجس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رعد لا ماء معه </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رعد الذي لا ماء معه لا ينبت العشب،كذلك العمل الذي لا إخلاص فيه لا يثمر الخير}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صطفى السباعي)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ما يشيب الغراب </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من طلب العلى من غير كد</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سيدركه إذا شاب الغرا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إمام الشافعي)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يىء يمكنك التميز فيه دون جهد</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فشل هو الشيء الوحيد الذي يستطيع أن يحققه الإنسان دون أن يبذل أي مجهود}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عار البائسين </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شعار البائسين:إذا لم أنجح اليوم فقد نجحت مرة،وهذا يكفي!!!)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بادىء أم مصالح </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ندما نتكلم فكلنا أصحاب مبادىء،وعندما نعمل فكلنا أصحاب مصالح!!!)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الأقزام              </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أسباب فشل بعض الإدارات والمؤسسات والشركات أن يتولى أقزام القيام بأعمال كبيرة ويحرصون على أن  يستعينوا بمساعديه أصغر منهم حجما وأقصر منهم قامة،</a:t>
            </a:r>
            <a:endParaRPr b="0" lang="en-US" sz="3200" spc="-1" strike="noStrike">
              <a:solidFill>
                <a:srgbClr val="000000"/>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يبدو الضئيل منهم كبيرا بين الصغار والكبار منهم طويلا بين الأقز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صطفى أمين)</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راسة المشاغب </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شعرت المشاغب بخشيتك منه كبرت مقاومته وازدادت شراسته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بقريات الرائعة </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كم من عبقريات رائعة تحطمت لأنها لم تجد في اللحظة الملائمة رئيــساً صالحاً يثني بعدل و يشجع بتعقل و يهتم بطريقة تذكي نار الحماس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مثل هذا يتربى القادة </a:t>
            </a:r>
            <a:endParaRPr b="0" lang="en-US" sz="4400" spc="-1" strike="noStrike">
              <a:solidFill>
                <a:srgbClr val="000000"/>
              </a:solidFill>
              <a:latin typeface="Times New Roman"/>
            </a:endParaRPr>
          </a:p>
        </p:txBody>
      </p:sp>
      <p:sp>
        <p:nvSpPr>
          <p:cNvPr id="238"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fontScale="91000"/>
          </a:bodyPr>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ا في المقــام لذي عقــل و ذي أدب                      من راحة فــدع الأوطان و اغتــــر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افر تجــد عوضــاً عمــن تفارقه             </a:t>
            </a:r>
            <a:r>
              <a:rPr b="0" lang="ar-SA" sz="2000" spc="-1" strike="noStrike">
                <a:solidFill>
                  <a:srgbClr val="000000"/>
                </a:solidFill>
                <a:latin typeface="Times New Roman"/>
              </a:rPr>
              <a:t>	</a:t>
            </a:r>
            <a:r>
              <a:rPr b="0" lang="ar-SA" sz="2000" spc="-1" strike="noStrike">
                <a:solidFill>
                  <a:srgbClr val="000000"/>
                </a:solidFill>
                <a:latin typeface="Times New Roman"/>
              </a:rPr>
              <a:t>و انصب فإن لذيذ العيش في النصـ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ي رأيت وقوف المـــاء يفســـده                          إن ساح طاب و إن لم يجـر لم يطــب </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 الأسد لولا فراق الأرض ما إفترست                  والسهم لولا فراق القوس لم يصــــ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الشمس لو وقفت في الفلك دائمة                         لملّها النــاس من عجم ومن عــــرب </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التّبر كالتراب مــلقى في أما كنه                         والعود في أرضه نوع من الخشـــ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إن تغرب هــذا عــز مطالبـــــــه                         وإن تغــرب ذاك عــــز كالذهـــــــب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8T00:31:24Z</dcterms:created>
  <dc:creator>****</dc:creator>
  <dc:description/>
  <dc:language>en-US</dc:language>
  <cp:lastModifiedBy>AHMAD JASSIM ALNAJAR</cp:lastModifiedBy>
  <dcterms:modified xsi:type="dcterms:W3CDTF">2000-11-02T19:09:02Z</dcterms:modified>
  <cp:revision>70</cp:revision>
  <dc:subject/>
  <dc:title>لا يوجد عنوان للشريحة</dc:title>
</cp:coreProperties>
</file>