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C276A2-DF7A-446F-BA5B-08B75F662E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A39EE-E0ED-4A88-937C-60A0DB3E5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E13DDD-50A6-462C-9526-5695013FB1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3856FD-3B37-425A-AA47-1DBCF50366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743FC-9970-4BB6-BB4B-4EA0B3D44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A948C-775F-427A-9FF4-9BAEAF000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F924D-45CC-4183-9D18-8E54B61C2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539AE-BA82-416E-A6E8-9918269D8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B8DC4-57D0-4C85-8B1B-98FD61033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0A2D7-F481-47D4-A1AB-83D5593B2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EA081-2B75-4B4C-B4C9-CC1776916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DA55A-F31F-4A89-880F-8266786BCD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7CD90-E7F0-4997-BCC8-8C88EA7E01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فساد العمل </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 ن عمل بغير علم كان ما يفسد أكثر مما يصلح ).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عمر بن عبد العزيز)</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عين الرضا </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 لست براد عيب ذي الود كل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 لا بعض ما فيه إذا كنت راضيا</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فعين الرضا عن كل عيب كليلة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لكن عين السخط تبدي المساوي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عندها يزداد العاملون</a:t>
            </a: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يزداد عدد العاملين بتشغيل المساعدين ، أما التدخل في دقائق عملهم دون مبرر فإنه يزعجهم ويفقدهم السلطة والثقة بالنفس)</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عداوة والجفاء </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نظروا بعين عداوة لو أنه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عين الرضا لا تستحسنوا ما استقبحو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ولك في النمل عظة </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نمل تبني قراها في تماسكه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النحل يجني رحيق الشهد أعوان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بعض لبعض </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ناس للناس من بدو و حاضرة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بعض لبعض و إن لم يشعروا خدم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شفاعة الحسنات </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إذا الحبيب أتى بذنب واحد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جاءت محاسنه بألف شفيع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عقول الكبيرة </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عقول الصغيرة تناقش الأشخاص،و العقول المتوسطة تناقش الأشياء،و العقول الكبيرة تناقش المبادئ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حكيم صيني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لاتكن كهذا الرئيس </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ن الرئيس الذي لا يتنبأ بالمتاعب ولا يتوقع الحلول للمشكلات ولا يلقي بأفكاره إلى المستقبل المجهول ليعلم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طريقه ما هو إلى مسير أعمال بسيطة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قائد وصفاء الذهن </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على الرئيس أن يحافظ على صفاء ذهنه ليستطيع السيطرة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على الحوادث بأفكاره وقراراته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أفعال بأفعال </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ايحق لمن لايجرؤ على الإبداع ولا يرهق نفسه بالاختراع</a:t>
            </a:r>
            <a:endParaRPr b="0" lang="en-US" sz="3200" spc="-1" strike="noStrike">
              <a:solidFill>
                <a:srgbClr val="000000"/>
              </a:solidFill>
              <a:latin typeface="Times New Roman"/>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أن ينفد أخطاء زملائه الذين حاولوا ففشلوا وجربوا فأخطأوا </a:t>
            </a:r>
            <a:endParaRPr b="0" lang="en-US" sz="3200" spc="-1" strike="noStrike">
              <a:solidFill>
                <a:srgbClr val="000000"/>
              </a:solidFill>
              <a:latin typeface="Times New Roman"/>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ليعلم هؤلاء النقاد بأن من لا يعمل لا يخطىء ونقد الأفعال </a:t>
            </a:r>
            <a:endParaRPr b="0" lang="en-US" sz="3200" spc="-1" strike="noStrike">
              <a:solidFill>
                <a:srgbClr val="000000"/>
              </a:solidFill>
              <a:latin typeface="Times New Roman"/>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بأفعال أفضل منها خير من نقد الأفعال بالأقوال فقط)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حمام الدماغ </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شعر الرؤساء الناجحون بضرورة الانعزال بين آونة وأخرى للتأمل بهدوء ودراسة تصرفاتهم القريبة والبعيدة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تأمين استرخاء أعصابهم وأذهانهم وهذا ما أسماه غالييني</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حمام الدماغ)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نحراف القادة و القدوات </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بالملح يدرك ما يخشى تغير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فكيف بالملح إن حلت به الغير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كل إناء بما فيه ينضح</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على الرئيس أن يغذي نفسه ثقافيا وروحيا ، مكرسا كل يوم وقتا للقراءة والتفكير، ومختلطا باستمرار مع أصدقائه               لا للسرور والراحة فحسب بل للمناقشة في أمور اجتماعية وعلمية)</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اكان الرفق في شىء إلا زانه </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قول الله تعالى :(فبما رحمة من الله لنت لهم ولو كنت فظا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غليظ القلب لانفضوا من حولك فاعف عنهم واستغفر لهم</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شاورهم في الأمر فإذا عزمت فتوكل على الله إن الله يحب</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متوكلين)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فنفسك أكرمها </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فنفسك أكرمها وإن ضاق مسكن</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عليك لها فاجعل لنفسك مسكنا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إياك والسكنى بمنزل ذلـــــــة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يعد مسيئا فيها من كان مسكن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يدس السم في العسل </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احذر عدوك إذ تراه باســم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فالليث يبدو نابه إذ يغضب</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اخير في ود امرىء متملق</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حلو اللسان وقلبه يتلهب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 وكنت أضنها لاتفرج </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ضاقت فلما استحكمت حلقاتها فرجت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كنت أضنها لاتفرج</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لرب ضائقة يضيق بها الفتــــــــــى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ذرعا وعند الله منها المخرج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إن الحوادث قد يطرقن أسحارا </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ا راقد الليل مسرورا بأول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إن الحوادث قد يطرقن أسحارا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ا تفرحن بليل طاب أولــ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فرب آخــر ليـل أجــج النـــارا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شجاعة العقل </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ن الشجاعة في القلوب كثيرة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رأيت شجعان العقول قليل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أحسن الحلى </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عقل المرء أحسن حليتيـــه</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زين المرء في الدنيا الحياء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مزكوم </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ما ضر الورود وما عليــه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إذا المزكوم لم يطعم شذاه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زلـل</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قد يدرك المتأني بعض حاجت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قد يكون مع المستحيل الزلل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قطامي)</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رزية </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تعلم ما الرزية فقد مال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 لا شاة تموت و لا بعير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 لكن الرزية فقد حر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يموت بموته بشر كثير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نعم أو لا </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ذا قلت في شئ نعم فأتمـــــــ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فإن نعم دين على الحر واجــ</a:t>
            </a:r>
            <a:r>
              <a:rPr b="0" lang="ar-SA" sz="3200" spc="-1" strike="noStrike">
                <a:solidFill>
                  <a:srgbClr val="000000"/>
                </a:solidFill>
                <a:latin typeface="Times New Roman"/>
              </a:rPr>
              <a:t>	</a:t>
            </a:r>
            <a:r>
              <a:rPr b="0" lang="ar-SA" sz="3200" spc="-1" strike="noStrike">
                <a:solidFill>
                  <a:srgbClr val="000000"/>
                </a:solidFill>
                <a:latin typeface="Times New Roman"/>
              </a:rPr>
              <a:t>ـب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 إلا فقل لا تسترح و ترح به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لئلا يقول النـــــاس إنك كـــــاذب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غنائم </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خاطر بنفسك كي تصيب غنيمة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إن الجلوس مع العيال قبيح</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مــــال فيه مهابـــة وتجلــــــة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والفقر فيه مذلة وفضـوح</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عبيد</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قد يخيف القلب القاسي الجنود ويجعل منهم عبيدا ولكننا لا نقبل العمل مع العبيد في خدمة هدف مقدس)</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مكافأة</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يست مكافأة الرئيس في ثناء رؤسائه، بل في تعلق مرؤوسه الصامت به لطيبة قلبه وشدة إحساس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افتخار بالحماقة</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أنا لا أفتخر بأني لم أبدل رأيي أبدا حول الأشياء أو حول الأشخاص ،لأن عدم تبديل الرأي أبدا هو حماقة تماثل رفض الإنسان لأن يتعلم)</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لم تقولون مالا تفعلون</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كم رئيس نادى بمبادىء ومثل عليا فأعجب به الناس وساروا خلفه فما أن رأوا أعماله المنافية لأقواله حتى ثاروا عليه وأطاحوا به وبحكم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قسوة المحبين</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أنبوا ولكن دون قسوة ، فقد تجرح الملاحظة القاسية كرامة المرؤوس وتدفعه إلى التقاعس أو التمر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زنزانة الجروح</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إن مثل من ينكأ الجروح القديمة لأجل خطا بسيط كمثل من يسجن الرجل بأخطائه القديمة في سجن لا يستطيع منه فكاكا)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دوهامل)</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فتبينوا </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لا تتسرعوا في فرض العقوبة بمجرد سماع أقوال أحد الطرفين المتنازعين حتى لو كان من مساعديكم ، فكم من عقوبة مجحفة فرضت من قبل رؤساء يجهلون شكل المذنب واسمه وأسباب حادثت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دماغ الكسلان</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دماغ الكسلان معمل الشيطان)</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مثل انجليزي)</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7617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كراع الظأن تتبعه السوام </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77000"/>
          </a:bodyPr>
          <a:p>
            <a:pPr marL="263880" indent="-26388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رأيت العلم صاحبه كريم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 لو ولدته آباء لئام</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263880" indent="-26388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 ليس يزال يرفعه إلى أن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يعظم أمره القوم الكرام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263880" indent="-26388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 يتبعونه في كل أمر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كراع الظأن تتبعه السوام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263880" indent="-26388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 لولا العلم ما عرفت رجال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 لا عرف الحلال و لا الحرام</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 الإمام الشافعي )   </a:t>
            </a:r>
            <a:endParaRPr b="0" lang="en-US" sz="3200" spc="-1" strike="noStrike">
              <a:solidFill>
                <a:srgbClr val="000000"/>
              </a:solidFill>
              <a:latin typeface="Times New Roman"/>
            </a:endParaRPr>
          </a:p>
          <a:p>
            <a:pPr marL="2638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638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879840" indent="0" algn="just" rtl="1">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ثل إيرلندي</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رؤوس كثيرة خير من رأس واح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بهذا تقضي على القلق</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اشيء يولد السعادة كالاستعاضة عن القلق بالعمل)</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موريس ميترلنك)</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روح الفتية</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كما يروقني الشاب الذي فيه نكهة من الشيوخ فإنه يروقني الشيخ الذي فيه نكهة من الشباب ، والذي يجهد للجمع بين الشباب والشيب في نفسه تبقى روحه فتية مهما تقدم به السن)</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شيشترو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قائد الفاشل </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ن القائد الفاشل يفتقر إلى المهارة في العلاقات الإنسانية أو أنه يرفض مواجهة قرار صعب بكل حزم أو أنه ليس لديه الموهبة لبيع برامجه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موت من الجوع </a:t>
            </a: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ن من يتقن حرفة لا يمكن أن يموت من الجوع أبدا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عندما يتجول الجوع </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طوف الجوع دائما حول بيت الرجل العامل ولكنه لا يجرؤ أبدا أن يطرق باب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حكمة صينية)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ألقاب</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تستطيع المؤسسة أن تمنح لقب مدير لأي رجل ولكن الرجل</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حده هو الذي يستطيع أن يجعل من نفسه مديرا)</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جوزيف عيسي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إدارة الذات </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ا يمكن لمدير أن يدير أي عمل حتى لو تيسر له قدر كاف</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من العلم والمعرفة والخبرة والمقدرة إذا كان لا يستطيع أن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دير نفسه بجدارة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بيتر دراكر)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سكرتير يساوي مدير</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ذا تصورت أنك تستطيع أن تعيش حياة خالية من المتاعب فـــاعلم إذن أن في مقدور سكرتيرك أن يجلس على كرسيك ويؤدي نفس العمل الذي تؤديه</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ليام بت)</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جـــــندي لا خير فيه </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الجندي البـسـيط الـذي لا يطمع إلى أن يصبح جـنرالا في يوم ما هو جــــندي لا خير في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نابليون)</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و على الأكابر يحكم العلماء </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ن الأكابر يحكمون على الورى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 على الأكابر يحكم العلماء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جــدير بالمجــد </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لم أجد الإنسان إلا ابن سعيه</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فمن كان أسعى كان بالمجد أجدرا</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صفي الحلـــي)</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عـيب عجــيب </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لم أر في عيوب الناس عيب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كنقص القادرين على التمـــــام</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متنبي)</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أسود مسخت فرودا </a:t>
            </a: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ذا ما الجهل خيم في بلاد</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رأيت أسودها مسخت قرود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على قدر أهل العزم </a:t>
            </a: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على قدر أهل العزم تأتي العزائم</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تأتي على قدر الكرام المكارم</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تعظم في عين الصغير صغارها</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تصغرفي عين العظيم العظائم</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منبي)</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ونفسك فاذممها </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نعيب زماننا والعيب فيـــــن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ما لزماننا عيــــب سوانا</a:t>
            </a:r>
            <a:endParaRPr b="0" lang="en-US" sz="3200" spc="-1" strike="noStrike">
              <a:solidFill>
                <a:srgbClr val="000000"/>
              </a:solidFill>
              <a:latin typeface="Times New Roman"/>
            </a:endParaRPr>
          </a:p>
          <a:p>
            <a:pPr marL="335880" indent="-3358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نهجو ذا الزمان بغير ذنب</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لو نطق الزمان لنا هجانا </a:t>
            </a:r>
            <a:endParaRPr b="0" lang="en-US" sz="3200" spc="-1" strike="noStrike">
              <a:solidFill>
                <a:srgbClr val="000000"/>
              </a:solidFill>
              <a:latin typeface="Times New Roman"/>
            </a:endParaRPr>
          </a:p>
          <a:p>
            <a:pPr marL="335880" indent="-3358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ليس الذئب يأكل لحم ذئب</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يأكل بعضنا بعضا عيان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إمام الشافعي)</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عقارب البشرية  </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دع الكذوب فلا يكن لك صاحبا</a:t>
            </a:r>
            <a:endParaRPr b="0" lang="en-US" sz="3200" spc="-1" strike="noStrike">
              <a:solidFill>
                <a:srgbClr val="000000"/>
              </a:solidFill>
              <a:latin typeface="Times New Roman"/>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إن الكذوب يسير حرا يصحب</a:t>
            </a:r>
            <a:endParaRPr b="0" lang="en-US" sz="3200" spc="-1" strike="noStrike">
              <a:solidFill>
                <a:srgbClr val="000000"/>
              </a:solidFill>
              <a:latin typeface="Times New Roman"/>
            </a:endParaRPr>
          </a:p>
          <a:p>
            <a:pPr marL="298440" indent="-29844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يلقاك يقســم إنــه بك واثـــــــق </a:t>
            </a:r>
            <a:endParaRPr b="0" lang="en-US" sz="3200" spc="-1" strike="noStrike">
              <a:solidFill>
                <a:srgbClr val="000000"/>
              </a:solidFill>
              <a:latin typeface="Times New Roman"/>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و إذا توارى عنك فهو العقرب </a:t>
            </a:r>
            <a:endParaRPr b="0" lang="en-US" sz="3200" spc="-1" strike="noStrike">
              <a:solidFill>
                <a:srgbClr val="000000"/>
              </a:solidFill>
              <a:latin typeface="Times New Roman"/>
            </a:endParaRPr>
          </a:p>
          <a:p>
            <a:pPr marL="298440" indent="-29844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عطيك من طرف اللسان حلاوة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 يروغ منك كما يروغ الثعلب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علي بن أبي طالب )</a:t>
            </a:r>
            <a:endParaRPr b="0" lang="en-US" sz="3200" spc="-1" strike="noStrike">
              <a:solidFill>
                <a:srgbClr val="000000"/>
              </a:solidFill>
              <a:latin typeface="Times New Roman"/>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كنز لا يكلف درهما </a:t>
            </a: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إن الذي لا يحسن الابتسامة لا ينبغي له أن يفتح متجر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مثل صيني)</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وصية كونفوشيوس </a:t>
            </a: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قل و سوف أنسى ،أرني و لعلي أتذكر ، شاركني و سوف أتذكر ) </a:t>
            </a:r>
            <a:r>
              <a:rPr b="0" lang="ar-SA" sz="3200" spc="-1" strike="noStrike">
                <a:solidFill>
                  <a:srgbClr val="000000"/>
                </a:solidFill>
                <a:latin typeface="Times New Roman"/>
              </a:rPr>
              <a:t>	</a:t>
            </a:r>
            <a:r>
              <a:rPr b="0" lang="ar-SA" sz="3200" spc="-1" strike="noStrike">
                <a:solidFill>
                  <a:srgbClr val="000000"/>
                </a:solidFill>
                <a:latin typeface="Times New Roman"/>
              </a:rPr>
              <a:t>     (  الحكيم الصيني كونفوشيوس)</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أكثر الناس لطفا </a:t>
            </a: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من الغريب أن يكون أكثر الناس لطفا في الشركات الكبيرة أعلاهم مركزا ،و كثيرا ما راودني هذا السؤال: أتراهم حصلوا على المركز بسبب لطفهم أم أن المركز نفسه هو الذي جعلهم لطفاء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مالكوم فوربس)</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بهذا توجب المحبة </a:t>
            </a: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من لانت كلمته وجبت محبته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كبير و إن صغر </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تعلم فليس المرء يولد عالم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 ليس أخو علم كمن هو جاهل          </a:t>
            </a:r>
            <a:endParaRPr b="0" lang="en-US" sz="3200" spc="-1" strike="noStrike">
              <a:solidFill>
                <a:srgbClr val="000000"/>
              </a:solidFill>
              <a:latin typeface="Times New Roman"/>
            </a:endParaRPr>
          </a:p>
          <a:p>
            <a:pPr marL="301680" indent="-3016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فإن كبير القوم لا علم عند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صغير إذا التفت عليه الجحافل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301680" indent="-3016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 إن صغير القوم إن كان عالم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كبير إذا ردت إليه المحافل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متنبي)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لؤم </a:t>
            </a: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ذا المرء لم يدنس اللؤم عرض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فكــــل رداء يرتديـــه جميـــــــل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صفي الدين حلي)</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أخلاق الرجال </a:t>
            </a:r>
            <a:endParaRPr b="0" lang="en-US" sz="44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عمرك ما ضاقت بلاد بأهله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 لكـن أخـلاق الرجـال تضيـق</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عمرو بن معد يكرب)</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فساد الرأي </a:t>
            </a:r>
            <a:endParaRPr b="0" lang="en-US" sz="4400" spc="-1" strike="noStrike">
              <a:solidFill>
                <a:srgbClr val="000000"/>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ذا كنت ذا رأي فكن ذا عزيمة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فإن فسـاد الـرأي أن تتــــردد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المتنبي)</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ذم بعد مدح </a:t>
            </a: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إن مدحك امرؤ بما ليس فيك ، فلا تأمن أن يذمك بما ليس فيك)</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أبو زيد البلخي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شر الناس </a:t>
            </a:r>
            <a:endParaRPr b="0" lang="en-US" sz="4400" spc="-1" strike="noStrike">
              <a:solidFill>
                <a:srgbClr val="0000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قول الرسول صلى الله عليه و سلم :(إن شر الناس عند الله منزلة يوم القيامة من تركه الناس اتقاء شر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رواه البخاري و مسلم عن عائشة)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لا تكن زبداً</a:t>
            </a:r>
            <a:endParaRPr b="0" lang="en-US" sz="44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قول الله تعالى { فأما الزبدُ فيذهبُ جُفاءً و أما ما ينفعُ الناس فيمكثُ في الأرض كذلك يضرب الله الأمثال }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الرعد /</a:t>
            </a:r>
            <a:r>
              <a:rPr b="0" lang="ar-SA" sz="3200" spc="-1" strike="noStrike">
                <a:solidFill>
                  <a:srgbClr val="000000"/>
                </a:solidFill>
                <a:latin typeface="Times New Roman"/>
              </a:rPr>
              <a:t>17</a:t>
            </a:r>
            <a:r>
              <a:rPr b="0" lang="ar-SA"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صناعة الذات </a:t>
            </a: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كل إنسان صانع ذاته و لكن لا يعترف بهذه الحقيقة سوى الناجحون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وطن المستحيل </a:t>
            </a: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أل الممكن المستحيل أين تقيم فقال في أحلام العاجز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طاغور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صحة و الثروة </a:t>
            </a:r>
            <a:endParaRPr b="0" lang="en-US" sz="44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نم مبكرا و انهض مبكرا تكسب صحة و ثروة و عقل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 مثل انجليزي )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ويل للمطففين *</a:t>
            </a: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قليلاً ما تجد من يزن أخطاء الآخرين دون أن يضع إبهامه على كفة الميزان).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إن البعوضة تدمي مقلة الأسد </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ا تحقرن صغيرا في مخاصمة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إن البعوضة تدمي مقلة الأسد</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صفر على اليسار </a:t>
            </a: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يتواجد بعض الناس في الحياة لمجرد أنهم ولدوا فيه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نصف الفارغ </a:t>
            </a: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لا تكونوا من أولئك الذين إذا رأو  نصف القارورة مملؤ اشتكوا من أ، نصفها فارغ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رؤساء الخالدون </a:t>
            </a: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كفي حضور الرئيس المحبوب لإثارة الإندفاع و العمل في سبيل الهدف المشترك ، أما الرؤساء الخالدون فيكفي ذكراهم لإثارة مثل هذا الإندفاع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ضريبة التفوق </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ليس النجاح غاية يقف بعدها كل عمل ، بل يجب أن يزداد الجهد بازدياد التقدم ، و للتفوق ضريبة يدفعها المتفوق من وقته و راحته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ممكن و غير الممكن </a:t>
            </a: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هنالك أفكار حسنة و أنظمة جيدة و لكنها غير صالحة للتطبيق في زمان معين أو بيئة معينة ، و الرئيس الصالح هو من استطاع التمييز بين الممكن و غير الممكن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تغــــيير </a:t>
            </a:r>
            <a:endParaRPr b="0" lang="en-US" sz="44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يقول الله تعالى :ان الله لا يغير ما بقوم حتى يغيروا ما بأنفسهم و إذا أراد اللهُ بقوم سوءاً فلا مردّ له و ماله من دونه من وال }.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الرعد /</a:t>
            </a:r>
            <a:r>
              <a:rPr b="0" lang="ar-SA" sz="3200" spc="-1" strike="noStrike">
                <a:solidFill>
                  <a:srgbClr val="000000"/>
                </a:solidFill>
                <a:latin typeface="Times New Roman"/>
              </a:rPr>
              <a:t>11</a:t>
            </a:r>
            <a:r>
              <a:rPr b="0" lang="ar-SA" sz="3200" spc="-1" strike="noStrike">
                <a:solidFill>
                  <a:srgbClr val="000000"/>
                </a:solidFill>
                <a:latin typeface="Times New Roman"/>
              </a:rPr>
              <a:t>)</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33588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588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آفة الرأي </a:t>
            </a:r>
            <a:endParaRPr b="0" lang="en-US" sz="44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آفة الرأي الهوى}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أكثم بن صيفي)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صناعة الحياة </a:t>
            </a: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الرجال الكبار و الأفكار الكبيرة هي التي تصنع البلاد الكبيرة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 مصطفى أمين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تى يطيب العيش ؟ </a:t>
            </a:r>
            <a:endParaRPr b="0" lang="en-US" sz="4400" spc="-1" strike="noStrike">
              <a:solidFill>
                <a:srgbClr val="000000"/>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طيب العيش أن تلقى أديبـــا</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غذاه العـلم و الرأي المصيــب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فيكشف عنك حيرة كل جهل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 فضـل العلم يعرفه الأديـــب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كمال العقل </a:t>
            </a: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ألم تر أن العقل زين لأهلـــه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 أن كمال العقل طول التجارب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شجاع ورب الكعبة </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ما في الأرض أشجع من برئ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 لا في الأرض أخوف من مريب</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لسان العاقــــل </a:t>
            </a:r>
            <a:endParaRPr b="0" lang="en-US" sz="4400" spc="-1" strike="noStrike">
              <a:solidFill>
                <a:srgbClr val="000000"/>
              </a:solidFill>
              <a:latin typeface="Times New Roman"/>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لسان العاقل من وراء قلبه ،فإذا أراد الكلام تفكر ،فإن كان له قال وإن كان عليه سكت ،وقلب الأحمق من وراء لسانه،فإذا أراد أن يقول قال ،فإن كان له سكت وإن كان عليه قال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حسن البصري)</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قد ضل من كانت العمياء تهديه  </a:t>
            </a:r>
            <a:endParaRPr b="0" lang="en-US" sz="44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أعمى يقود بصيرا لا أبا لكم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قد ضل من كانت العميان تهديه</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داء لا دواء له </a:t>
            </a:r>
            <a:endParaRPr b="0" lang="en-US" sz="4400" spc="-1" strike="noStrike">
              <a:solidFill>
                <a:srgbClr val="000000"/>
              </a:solidFill>
              <a:latin typeface="Times New Roman"/>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كل داء دواء يستطب ب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إلا الحماقة أعيت من يداويها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محل الأول </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رأي قبل شجاعة الشجعان</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هو أول وهي المحل الثاني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متنبي)</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قبل أن تندم </a:t>
            </a:r>
            <a:endParaRPr b="0" lang="en-US" sz="4400" spc="-1" strike="noStrike">
              <a:solidFill>
                <a:srgbClr val="000000"/>
              </a:solidFill>
              <a:latin typeface="Times New Roman"/>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أن تكون واثقا خير من أن تصبح نادم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رؤوس المستديرة إلى الوراء </a:t>
            </a:r>
            <a:endParaRPr b="0" lang="en-US" sz="4400" spc="-1" strike="noStrike">
              <a:solidFill>
                <a:srgbClr val="000000"/>
              </a:solidFill>
              <a:latin typeface="Times New Roman"/>
            </a:endParaRPr>
          </a:p>
        </p:txBody>
      </p:sp>
      <p:sp>
        <p:nvSpPr>
          <p:cNvPr id="2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ذين يديرون رؤوسهم إلى الخلف لا يرون الغد أبدا}</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مصطفى أمي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سبــب التدمير    </a:t>
            </a:r>
            <a:endParaRPr b="0" lang="en-US" sz="4400" spc="-1" strike="noStrike">
              <a:solidFill>
                <a:srgbClr val="000000"/>
              </a:solidFill>
              <a:latin typeface="Times New Roman"/>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وء التدبير سبب التدمير}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قيمة العمل </a:t>
            </a: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أهداف هي التي تحدد قيمة أعمالنا،والمهم هو العمل الذي يكون هدفه مهم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عربة الفارغة </a:t>
            </a:r>
            <a:endParaRPr b="0" lang="en-US" sz="4400" spc="-1" strike="noStrike">
              <a:solidFill>
                <a:srgbClr val="000000"/>
              </a:solidFill>
              <a:latin typeface="Times New Roman"/>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عربة الفارغة أكثر جلبة من العربة الممتلئة وهكذا رؤوس الناس}</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برنارد شو)</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جوهرة الإدارة </a:t>
            </a:r>
            <a:endParaRPr b="0" lang="en-US" sz="4400" spc="-1" strike="noStrike">
              <a:solidFill>
                <a:srgbClr val="000000"/>
              </a:solidFill>
              <a:latin typeface="Times New Roman"/>
            </a:endParaRPr>
          </a:p>
        </p:txBody>
      </p:sp>
      <p:sp>
        <p:nvSpPr>
          <p:cNvPr id="2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جوهرة الإدارة هو قـوة التنبؤ قبل حدوث الأشياء}</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هنري فايول)</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ا سطرت يداك </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 ما من كاتب إلى سيبلى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 يبقى الدهر ما كتبت يداه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فلا تكتب بكفك غير شئ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يسرك في القيامة أن تراه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عندما تتعب الأجسام </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إذا كانت النفوس كبار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تعبت في مرادها الأجسام</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متنبي)</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رعد لا ماء معه </a:t>
            </a:r>
            <a:endParaRPr b="0" lang="en-US" sz="4400" spc="-1" strike="noStrike">
              <a:solidFill>
                <a:srgbClr val="000000"/>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رعد الذي لا ماء معه لا ينبت العشب،كذلك العمل الذي لا إخلاص فيه لا يثمر الخير}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مصطفى السباعي)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عندما يشيب الغراب </a:t>
            </a: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من طلب العلى من غير كد</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سيدركه إذا شاب الغراب</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إمام الشافعي)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شيىء يمكنك التميز فيه دون جهد</a:t>
            </a: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فشل هو الشيء الوحيد الذي يستطيع أن يحققه الإنسان دون أن يبذل أي مجهود}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شعار البائسين </a:t>
            </a: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شعار البائسين:إذا لم أنجح اليوم فقد نجحت مرة،وهذا يكفي!!!)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بادىء أم مصالح </a:t>
            </a:r>
            <a:endParaRPr b="0" lang="en-US" sz="4400" spc="-1" strike="noStrike">
              <a:solidFill>
                <a:srgbClr val="000000"/>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عندما نتكلم فكلنا أصحاب مبادىء،وعندما نعمل فكلنا أصحاب مصالح!!!)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                الأقزام              </a:t>
            </a: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من أسباب فشل بعض الإدارات والمؤسسات والشركات أن يتولى أقزام القيام بأعمال كبيرة ويحرصون على أن  يستعينوا بمساعديه أصغر منهم حجما وأقصر منهم قامة،</a:t>
            </a:r>
            <a:endParaRPr b="0" lang="en-US" sz="3200" spc="-1" strike="noStrike">
              <a:solidFill>
                <a:srgbClr val="000000"/>
              </a:solidFill>
              <a:latin typeface="Times New Roman"/>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ليبدو الضئيل منهم كبيرا بين الصغار والكبار منهم طويلا بين الأقزام)</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مصطفى أمين)</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شراسة المشاغب </a:t>
            </a:r>
            <a:endParaRPr b="0" lang="en-US" sz="44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ذا شعرت المشاغب بخشيتك منه كبرت مقاومته وازدادت شراسته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عبقريات الرائعة </a:t>
            </a:r>
            <a:endParaRPr b="0" lang="en-US" sz="4400" spc="-1" strike="noStrike">
              <a:solidFill>
                <a:srgbClr val="000000"/>
              </a:solidFill>
              <a:latin typeface="Times New Roman"/>
            </a:endParaRPr>
          </a:p>
        </p:txBody>
      </p:sp>
      <p:sp>
        <p:nvSpPr>
          <p:cNvPr id="2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كم من عبقريات رائعة تحطمت لأنها لم تجد في اللحظة الملائمة رئيــساً صالحاً يثني بعدل و يشجع بتعقل و يهتم بطريقة تذكي نار الحماسة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بمثل هذا يتربى القادة </a:t>
            </a:r>
            <a:endParaRPr b="0" lang="en-US" sz="4400" spc="-1" strike="noStrike">
              <a:solidFill>
                <a:srgbClr val="000000"/>
              </a:solidFill>
              <a:latin typeface="Times New Roman"/>
            </a:endParaRPr>
          </a:p>
        </p:txBody>
      </p:sp>
      <p:sp>
        <p:nvSpPr>
          <p:cNvPr id="238"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fontScale="91000"/>
          </a:bodyPr>
          <a:p>
            <a:pPr marL="312120" indent="-3121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ا في المقــام لذي عقــل و ذي أدب                      من راحة فــدع الأوطان و اغتــــرب</a:t>
            </a:r>
            <a:endParaRPr b="0" lang="en-US" sz="2000" spc="-1" strike="noStrike">
              <a:solidFill>
                <a:srgbClr val="000000"/>
              </a:solidFill>
              <a:latin typeface="Times New Roman"/>
            </a:endParaRPr>
          </a:p>
          <a:p>
            <a:pPr marL="312120" indent="-3121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سافر تجــد عوضــاً عمــن تفارقه             </a:t>
            </a:r>
            <a:r>
              <a:rPr b="0" lang="ar-SA" sz="2000" spc="-1" strike="noStrike">
                <a:solidFill>
                  <a:srgbClr val="000000"/>
                </a:solidFill>
                <a:latin typeface="Times New Roman"/>
              </a:rPr>
              <a:t>	</a:t>
            </a:r>
            <a:r>
              <a:rPr b="0" lang="ar-SA" sz="2000" spc="-1" strike="noStrike">
                <a:solidFill>
                  <a:srgbClr val="000000"/>
                </a:solidFill>
                <a:latin typeface="Times New Roman"/>
              </a:rPr>
              <a:t>و انصب فإن لذيذ العيش في النصـب</a:t>
            </a:r>
            <a:endParaRPr b="0" lang="en-US" sz="2000" spc="-1" strike="noStrike">
              <a:solidFill>
                <a:srgbClr val="000000"/>
              </a:solidFill>
              <a:latin typeface="Times New Roman"/>
            </a:endParaRPr>
          </a:p>
          <a:p>
            <a:pPr marL="312120" indent="-3121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ي رأيت وقوف المـــاء يفســـده                          إن ساح طاب و إن لم يجـر لم يطــب </a:t>
            </a:r>
            <a:endParaRPr b="0" lang="en-US" sz="2000" spc="-1" strike="noStrike">
              <a:solidFill>
                <a:srgbClr val="000000"/>
              </a:solidFill>
              <a:latin typeface="Times New Roman"/>
            </a:endParaRPr>
          </a:p>
          <a:p>
            <a:pPr marL="312120" indent="-3121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 الأسد لولا فراق الأرض ما إفترست                  والسهم لولا فراق القوس لم يصــــب</a:t>
            </a:r>
            <a:endParaRPr b="0" lang="en-US" sz="2000" spc="-1" strike="noStrike">
              <a:solidFill>
                <a:srgbClr val="000000"/>
              </a:solidFill>
              <a:latin typeface="Times New Roman"/>
            </a:endParaRPr>
          </a:p>
          <a:p>
            <a:pPr marL="312120" indent="-3121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الشمس لو وقفت في الفلك دائمة                         لملّها النــاس من عجم ومن عــــرب </a:t>
            </a:r>
            <a:endParaRPr b="0" lang="en-US" sz="2000" spc="-1" strike="noStrike">
              <a:solidFill>
                <a:srgbClr val="000000"/>
              </a:solidFill>
              <a:latin typeface="Times New Roman"/>
            </a:endParaRPr>
          </a:p>
          <a:p>
            <a:pPr marL="312120" indent="-3121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التّبر كالتراب مــلقى في أما كنه                         والعود في أرضه نوع من الخشـــب</a:t>
            </a:r>
            <a:endParaRPr b="0" lang="en-US" sz="2000" spc="-1" strike="noStrike">
              <a:solidFill>
                <a:srgbClr val="000000"/>
              </a:solidFill>
              <a:latin typeface="Times New Roman"/>
            </a:endParaRPr>
          </a:p>
          <a:p>
            <a:pPr marL="312120" indent="-3121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إن تغرب هــذا عــز مطالبـــــــه                         وإن تغــرب ذاك عــــز كالذهـــــــب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18T00:31:24Z</dcterms:created>
  <dc:creator>****</dc:creator>
  <dc:description/>
  <dc:language>en-US</dc:language>
  <cp:lastModifiedBy>AHMAD JASSIM ALNAJAR</cp:lastModifiedBy>
  <dcterms:modified xsi:type="dcterms:W3CDTF">2000-11-02T19:09:02Z</dcterms:modified>
  <cp:revision>70</cp:revision>
  <dc:subject/>
  <dc:title>لا يوجد عنوان للشريحة</dc:title>
</cp:coreProperties>
</file>